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D0ADC-3BAA-4209-B3CA-16F96420B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D23B70-8DB2-4552-98C2-293FD0D1E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DCF3E30-EEF2-4E52-B771-CA5931E6885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FDF8D8FC-4996-43EC-91F3-824590B3C06E}"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EE5FBEE5-5CD6-4F6B-AE29-88CA34413CE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F86C9D2-B524-41A0-AC40-2459A3A210E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7AFE228-1789-4AF5-BAFF-1630CF41D13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929C023-05CF-43CD-948E-26127333F3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EB77469C-2A0A-4DF5-A3B2-9DDECC484AF0}"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D17B9823-8A28-468C-90F5-28095E699DE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836C49A-4902-4045-9646-094D1FED809B}"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92516AE-393A-47C1-8F0D-D7170343E22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7DD4B4-E69D-40C9-A197-9ACA56829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0B0A753B-93B4-4B09-BA34-F75218D377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620AF371-8769-4D96-B56D-3131A004FE2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7FFC09D-C151-4E93-954C-203EC67E2F4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A802E030-C757-44CF-8E6E-682AD17714E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E02C6316-DF3F-46C1-B1B4-D3D3749FE6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DEC62844-72F7-41AA-BA18-42B4AC9F15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C805787-3E8A-462B-9C1C-B4930AB0278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FDC8FC84-0248-4C70-A1C1-876CA574CB8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C9DD7742-09E8-4ADB-B7C6-8BFEB76942C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1C7E5274-5649-4C94-B067-3DF1D9B5DF3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14521-5EFF-4DE8-8122-963EC10B8B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48DBCEA8-F896-4F85-BC1D-D971894ED9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550D479-D9CC-48C4-8549-67417A64435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575DB0C-2DA7-401D-A095-E28B2E78D7B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DA20BF4-66A4-490A-8F6D-360906EBA3E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E7799A3-297A-418A-B7CC-24FA4FFECE9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FA52CAA-63BA-4B90-9725-372199D777D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BA34A58-75EE-4B1D-8B91-E611A9BB087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217B001-0AAE-49E9-88A7-675552529D7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F8E8F10-3641-4284-8E47-E4B77DE272F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BDA3887-0CF3-43A3-81B5-8CD8C797DDC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A2656-D842-4E9F-9FB9-8E648889A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E42850-AD7E-4F82-A824-D8FE0593E8D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DB67203-39FF-47DF-8856-9AA5FAA96FB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CB08EA9-EB51-4B39-BDAC-9234E6C0149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C9885D67-640D-4839-8433-DF442F8A9B2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4967404B-B7DA-4421-8F79-AF618FE460F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7E1BEA02-36B0-457F-82E8-C5540819EA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8C2567D-EB97-45F8-A873-ED912BF52B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8B537237-5ED9-4B29-BDD2-F8AFAD5EC0F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CD68F793-3C7A-442D-ACB0-96CCB3141EA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19F2B7E-D541-44C7-B45F-5473343074F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DA3D20-7151-4E24-8B6F-55B9755CE6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563C4ED4-5B6E-490A-818D-9CBD1E1D99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B684DD3-98E1-4A57-83FE-C4F783E76A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3AE2F160-5CBE-4F6D-B83A-5C1DC40A479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60F72B2D-D90F-4214-99C0-56A60D3E2C5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463B58E-BA8A-4EA8-A2D4-7AF3BAB158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5DD07-DA7B-48F4-BC69-F2E770769C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94964A-76BB-449E-B5BF-FDA4FA259F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858A9F-8FD0-4F6A-A7E4-8E45A5FFDF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52982-EAD2-4915-B3F8-15416E2CC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00F107-4E53-4902-9B52-727C54DC4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E3651-8BD9-4850-A9E8-6C0539064A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F663-A4E9-4F6A-A4D4-E4D3FB70DB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F3312-35AE-4440-8AD5-033575F03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A0532-AB5F-4736-B935-2E1FAB6E04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51B612-E877-46A5-87DB-856208E209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1BA4EE-EFE8-4C91-ADE6-795FE6EEB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29DB2D7-A7E3-42F3-99AB-D0CD4A4480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5ECDD4F-2802-4BE6-9E35-38364FD03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301903-7DB2-40F2-AC7D-DA214F3215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3F8351A-86AC-4376-9445-0BDF5C70A1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4BBCC2-F5F7-4C9A-9049-CF6054A80B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7995F0-DAB5-49D7-AE15-3C6C4FE84D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EC06FB-42C4-400B-8365-18B20709F8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797192-3796-406F-9F80-5DC13A7C60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D48ECF-8B5E-4BBA-B521-45795BA706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7F0751-4F25-4A51-8AB0-634EB69E4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537CFF2-E694-40A2-8630-2398AAB070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50FE12C-BFBF-4591-94A6-F3E3E60D5F5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24EEEAD-0428-4DB3-AC37-399C8B2FF5D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0E127E32-A673-4C17-9DDD-5564207D86B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5320B82-9B7B-49AF-A596-CE53590694D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BBEE908-AD99-47FF-847A-5AD98524DB1D}"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21AD8-E4F9-485C-9052-728AE01B1C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A4DE4986-6E1A-4CB7-AAA8-E0CD3737E85D}"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DDA4CD76-985A-4344-B9B5-95D1DFF3697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50461E3-2201-4423-A8FD-F0C47642A627}"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3A49019-BCDE-46EC-A43C-4716F464560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C57D38-92E5-4D86-BBBB-CC963CEE0AEB}"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D4C8D51-FAD6-48CB-BE24-6FA82F3466D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EEBDAB56-A46A-4F09-85F7-912FDEC4448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164008D5-CB58-4D0A-AC42-8B27B66B940C}"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A2EB810E-FE37-409E-B3B3-0C1BF72FE8CD}"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BE1B5D3-8418-4BBA-9B09-5ED0681FCE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FDF77-1F38-441E-A058-A267DBD1A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1D9293-F19E-4B93-ACF4-1FAE11BD7E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5A0EF77-6266-4665-8BBF-BEDB3A8C7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EAF43F-1CA0-4DC4-8940-9E3E0039D12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57371BD-751E-4504-BE89-7E5387875A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10992E1-9DA0-4D2D-B945-5053F5D0B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C7E40D-A05E-401D-931C-F727792CC4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B9CA84-F667-4724-ABAA-4DE9F27D66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4327B-CF6A-4FF5-8D62-AF4B4CE64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8EA14C4-5CA6-4392-BD72-C31486D85B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9F1EE9-E131-4E11-90DA-149B0F4B904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098D8-F24E-454D-8438-F4B44CA60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D2B8FA-D422-4963-BE90-354F6091D4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80EBCC-2695-4C1F-9469-78843E17C9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E7D845-9C13-4D92-A77F-691A4F194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7F56CB-F21B-4B51-AAF1-CE03222529E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07050-F986-4349-9589-4B75D18399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6BCB8E-4B9C-4D7E-B946-6A600B65EF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0DE6A8-20A6-4B90-802B-EE5665A81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FFA2CD-B8E8-43C4-8F93-5282BB3B0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EBF15-2139-486E-8208-0BBBE9551B2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6B23A1-FD4E-49CC-ABA8-638E684504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9F536-1EFE-457C-B6F1-881B6EDFCA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9AA079-536A-49FD-85BB-5462DBF7348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101557C-E817-483C-BDB2-5F5114894E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F642B79-BF6D-4228-B1CA-917D06B2D9C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4F3F19-E972-4A14-B81E-CF85E2DF9D9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6D8A4AA-27D5-4EED-904C-F15D884D02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EDFA32-6669-4E8D-8D24-824A6B985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B849C5-D75A-41C9-8487-A5747647052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20B1D51-1B8A-4728-9DDC-7057C071BA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DF3A84-A97D-45EC-AA27-0A5FB07C1D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F59572-DF23-432A-87CA-326310BF5DC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49EC7-403B-47F4-A0AF-093C0B4AF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2FB2BA-D8EA-477D-AE99-763DFFBBEEC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43BA0A-EC00-4BF7-BE29-429C8514E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D7A4F3E-8524-464B-B120-86590C17BF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66E3F7A-A321-437F-A7C9-632C929717E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64E0E3-0511-4F5E-8EBE-4696EB7D2B0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BD34ED1-ADF5-4DCE-B8D1-D09D12E531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1F6F26-9039-470B-9C9F-9A53AE88537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F16EBF-E8A9-4C91-8EC2-FD2650EB69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2E02952-B46D-434D-95CF-488F452DF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DA13E88-2FBD-4DB1-92DC-3C8C868398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5D5AE-1427-46AC-85D0-03BCA87715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75183B-E55D-424D-A0D5-FAA530EE248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AF4596-7E7E-4B8C-95CC-2C0348F5E4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C1B0FB1-687E-43D9-8AC0-218ACC619A5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FE2A85-6AD5-4D8A-82D2-4F6C9CA1F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0F6D6CA-09EF-4433-A934-56D91E2B08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3452ED2-5BF9-4EC0-AFB1-71D8F18BFC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7FF4F0-8EE4-48E8-B778-E91834D07F5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E1F26CC-8DEE-4C6D-B5B5-E0D465CAF5D7}"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8B785E6-A83D-447B-8F70-9B378DF6FC71}"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1D6A739F-237D-4EF8-9F67-F5820F2B5F15}"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8D28-71D6-47F9-A153-253EC38280C8}"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Straight Connector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25"/>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2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5580D-E96C-4B52-84A6-125BC1299429}"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3"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8F02A-A9E2-41B5-A52C-DDE6C7769FAA}"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Rectangle 25"/>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Straight Connector 26"/>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3"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Oval 28"/>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CF529-F32C-4142-A2B1-49E55C3A44B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5"/>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8"/>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801C4-5876-49F9-B90E-3BE3BD28744D}"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1F11-597A-4030-9341-45B5249B8244}"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6"/>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8"/>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30"/>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87B5D-FD4E-4973-B4FC-F33FDF2B300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87A0C-4292-48D3-9815-A9D5C33DB43F}"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5"/>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6"/>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7"/>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30"/>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A2243-5802-4FF3-AB5E-A05C591AC771}"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1E65-86A1-4329-AF12-023EFC46F043}"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24"/>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5"/>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3C975-7F5B-451E-ABB8-E5C8EB9002AD}"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Rectangle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5"/>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6"/>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Straight Connector 27"/>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9"/>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30"/>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FE528-6D24-4255-AC4A-58A5F4C113F2}" type="slidenum">
              <a:rPr b="0" lang="en-US"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ubTitle"/>
          </p:nvPr>
        </p:nvSpPr>
        <p:spPr>
          <a:xfrm>
            <a:off x="1371600" y="2819520"/>
            <a:ext cx="6400800" cy="1752480"/>
          </a:xfrm>
          <a:prstGeom prst="rect">
            <a:avLst/>
          </a:prstGeom>
          <a:noFill/>
          <a:ln w="0">
            <a:noFill/>
          </a:ln>
        </p:spPr>
        <p: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A LIBRARY AUTOMATION SYSTEM THAT WILL BENEFIT ALL OF US.</a:t>
            </a:r>
            <a:endParaRPr b="0" lang="en-US" sz="1600" spc="-1" strike="noStrike">
              <a:solidFill>
                <a:srgbClr val="000000"/>
              </a:solidFill>
              <a:latin typeface="Georgia"/>
            </a:endParaRPr>
          </a:p>
        </p:txBody>
      </p:sp>
      <p:sp>
        <p:nvSpPr>
          <p:cNvPr id="607" name="PlaceHolder 2"/>
          <p:cNvSpPr>
            <a:spLocks noGrp="1"/>
          </p:cNvSpPr>
          <p:nvPr>
            <p:ph type="title"/>
          </p:nvPr>
        </p:nvSpPr>
        <p:spPr>
          <a:xfrm>
            <a:off x="685800" y="380520"/>
            <a:ext cx="7772400" cy="17528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Destiny will help  Bailey School District reach its Goals</a:t>
            </a:r>
            <a:endParaRPr b="0" lang="en-US" sz="42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 extras</a:t>
            </a:r>
            <a:endParaRPr b="0" lang="en-US" sz="3300" spc="-1" strike="noStrike">
              <a:solidFill>
                <a:srgbClr val="7b9899"/>
              </a:solidFill>
              <a:latin typeface="Georgia"/>
            </a:endParaRPr>
          </a:p>
        </p:txBody>
      </p:sp>
      <p:sp>
        <p:nvSpPr>
          <p:cNvPr id="625"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Arial"/>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For example, if you want your fine/overdue lists every Monday morning, at </a:t>
            </a:r>
            <a:r>
              <a:rPr b="0" lang="en-US" sz="1800" spc="-1" strike="noStrike">
                <a:solidFill>
                  <a:srgbClr val="000000"/>
                </a:solidFill>
                <a:latin typeface="Calibri"/>
                <a:ea typeface="Arial"/>
              </a:rPr>
              <a:t>	</a:t>
            </a:r>
            <a:r>
              <a:rPr b="0" lang="en-US" sz="1800" spc="-1" strike="noStrike">
                <a:solidFill>
                  <a:srgbClr val="000000"/>
                </a:solidFill>
                <a:latin typeface="Calibri"/>
                <a:ea typeface="Arial"/>
              </a:rPr>
              <a:t>8:00, you can set it up to do th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Students will like that Destiny allows them to:</a:t>
            </a:r>
            <a:endParaRPr b="0" lang="en-US" sz="3300" spc="-1" strike="noStrike">
              <a:solidFill>
                <a:srgbClr val="7b9899"/>
              </a:solidFill>
              <a:latin typeface="Georgia"/>
            </a:endParaRPr>
          </a:p>
        </p:txBody>
      </p:sp>
      <p:sp>
        <p:nvSpPr>
          <p:cNvPr id="627"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ccess the program anywhere in the school.</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write book reviews for other students with librarian approva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recommend books to other people.</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put books on hold.</a:t>
            </a:r>
            <a:br>
              <a:rPr sz="1400"/>
            </a:b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books, through the </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Find-a-book</a:t>
            </a:r>
            <a:r>
              <a:rPr b="0" lang="en-US" sz="1400" spc="-1" strike="noStrike">
                <a:solidFill>
                  <a:srgbClr val="000000"/>
                </a:solidFill>
                <a:latin typeface="Times New Roman"/>
                <a:ea typeface="Arial"/>
              </a:rPr>
              <a:t>”</a:t>
            </a:r>
            <a:r>
              <a:rPr b="0" lang="en-US" sz="1400" spc="-1" strike="noStrike">
                <a:solidFill>
                  <a:srgbClr val="000000"/>
                </a:solidFill>
                <a:latin typeface="Arial"/>
                <a:ea typeface="Arial"/>
              </a:rPr>
              <a:t> feature, that is connected to Reading Counts, Accelerated Reader, or Lexile level.</a:t>
            </a: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9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create lists of books, websites, and online resources that they want read.</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Arial"/>
              </a:rPr>
              <a:t>Teachers will like that Destiny allows them to:</a:t>
            </a:r>
            <a:endParaRPr b="0" lang="en-US" sz="3000" spc="-1" strike="noStrike">
              <a:solidFill>
                <a:srgbClr val="7b9899"/>
              </a:solidFill>
              <a:latin typeface="Georgia"/>
            </a:endParaRPr>
          </a:p>
        </p:txBody>
      </p:sp>
      <p:sp>
        <p:nvSpPr>
          <p:cNvPr id="629"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find out which students are using the library the most.</a:t>
            </a:r>
            <a:r>
              <a:rPr b="0" lang="en-US" sz="1400" spc="-1" strike="noStrike">
                <a:solidFill>
                  <a:srgbClr val="000000"/>
                </a:solidFill>
                <a:latin typeface="Arial"/>
              </a:rPr>
              <a: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Destiny online anywhere and at any time</a:t>
            </a:r>
            <a:r>
              <a:rPr b="0" lang="en-US" sz="1600" spc="-1" strike="noStrike">
                <a:solidFill>
                  <a:srgbClr val="000000"/>
                </a:solidFill>
                <a:latin typeface="Arial"/>
              </a:rPr>
              <a:t>.</a:t>
            </a:r>
            <a:endParaRPr b="0" lang="en-US" sz="1600" spc="-1" strike="noStrike">
              <a:solidFill>
                <a:srgbClr val="000000"/>
              </a:solidFill>
              <a:latin typeface="Georgia"/>
            </a:endParaRPr>
          </a:p>
          <a:p>
            <a:pPr marL="272880" indent="-272880">
              <a:lnSpc>
                <a:spcPct val="100000"/>
              </a:lnSpc>
              <a:spcBef>
                <a:spcPts val="400"/>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reate content bibliographies for students to search on specific topics utilizing the category segment.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llow their students through their K-12 years.</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ish for a book with the request being sent to the libraria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g into “MyInfo” to see their patron information</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Arial"/>
              </a:rPr>
              <a:t>Parents will like that Destiny allows them to</a:t>
            </a:r>
            <a:endParaRPr b="0" lang="en-US" sz="3300" spc="-1" strike="noStrike">
              <a:solidFill>
                <a:srgbClr val="7b9899"/>
              </a:solidFill>
              <a:latin typeface="Georgia"/>
            </a:endParaRPr>
          </a:p>
        </p:txBody>
      </p:sp>
      <p:sp>
        <p:nvSpPr>
          <p:cNvPr id="631" name=""/>
          <p:cNvSpPr txBox="1"/>
          <p:nvPr/>
        </p:nvSpPr>
        <p:spPr>
          <a:xfrm>
            <a:off x="301320" y="1527120"/>
            <a:ext cx="8504280" cy="4572000"/>
          </a:xfrm>
          <a:prstGeom prst="rect">
            <a:avLst/>
          </a:prstGeom>
          <a:noFill/>
          <a:ln w="0">
            <a:noFill/>
          </a:ln>
        </p:spPr>
        <p:txBody>
          <a:bodyPr anchor="t">
            <a:normAutofit/>
          </a:bodyPr>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ss the library card catalog 24/7</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safe, educational K-12 websites that are linked to Destiny </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nd books age-appropriate for their children through the “Find a Book” feature</a:t>
            </a: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lnSpc>
                <a:spcPct val="100000"/>
              </a:lnSpc>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THER NOTABLE FEATURES</a:t>
            </a:r>
            <a:endParaRPr b="0" lang="en-US" sz="3300" spc="-1" strike="noStrike">
              <a:solidFill>
                <a:srgbClr val="7b9899"/>
              </a:solidFill>
              <a:latin typeface="Georgia"/>
            </a:endParaRPr>
          </a:p>
        </p:txBody>
      </p:sp>
      <p:sp>
        <p:nvSpPr>
          <p:cNvPr id="633"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Web-based automation system - installed on a single server, intuitive and fast</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 addition to library automation, Destiny offers products to manage library resources, textbooks, media materials, equipment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Different levels of access for library administrator, library staff, and patrons.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nventor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be done any time of the yea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an do partial, full, or special circulation type inventorie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A.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  Help 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C.  Online tutorials</a:t>
            </a:r>
            <a:endParaRPr b="0" lang="en-US" sz="1400" spc="-1" strike="noStrike">
              <a:solidFill>
                <a:srgbClr val="000000"/>
              </a:solidFill>
              <a:latin typeface="Georgia"/>
            </a:endParaRPr>
          </a:p>
          <a:p>
            <a:pPr marL="272880" indent="-272880">
              <a:spcBef>
                <a:spcPts val="176"/>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Use Follett Remote</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646b86"/>
                </a:solidFill>
                <a:latin typeface="Georgia"/>
              </a:rPr>
              <a:t>Book and patron barcodes can be recorded to a text file at checkout and later downloaded into Destiny.</a:t>
            </a:r>
            <a:endParaRPr b="0" lang="en-US" sz="1300" spc="-1" strike="noStrike">
              <a:solidFill>
                <a:srgbClr val="646b86"/>
              </a:solidFill>
              <a:latin typeface="Georgia"/>
            </a:endParaRPr>
          </a:p>
          <a:p>
            <a:pPr lvl="1" marL="547560" indent="-272880">
              <a:spcBef>
                <a:spcPts val="326"/>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646b86"/>
              </a:solidFill>
              <a:latin typeface="Georgia"/>
            </a:endParaRPr>
          </a:p>
          <a:p>
            <a:pPr marL="272880" indent="-2728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STRONG SUPPORT</a:t>
            </a:r>
            <a:endParaRPr b="0" lang="en-US" sz="3300" spc="-1" strike="noStrike">
              <a:solidFill>
                <a:srgbClr val="7b9899"/>
              </a:solidFill>
              <a:latin typeface="Georgia"/>
            </a:endParaRPr>
          </a:p>
        </p:txBody>
      </p:sp>
      <p:sp>
        <p:nvSpPr>
          <p:cNvPr id="63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get help:</a:t>
            </a:r>
            <a:endParaRPr b="0" lang="en-US" sz="1800" spc="-1" strike="noStrike">
              <a:solidFill>
                <a:srgbClr val="000000"/>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46b86"/>
                </a:solidFill>
                <a:latin typeface="Georgia"/>
              </a:rPr>
              <a:t>via telephone – 800 number</a:t>
            </a:r>
            <a:endParaRPr b="0" lang="en-US" sz="1400" spc="-1" strike="noStrike">
              <a:solidFill>
                <a:srgbClr val="646b86"/>
              </a:solidFill>
              <a:latin typeface="Georgia"/>
            </a:endParaRPr>
          </a:p>
          <a:p>
            <a:pPr lvl="1" marL="547560" indent="-272880">
              <a:spcBef>
                <a:spcPts val="349"/>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646b86"/>
                </a:solidFill>
                <a:latin typeface="Georgia"/>
              </a:rPr>
              <a:t>Help </a:t>
            </a:r>
            <a:r>
              <a:rPr b="0" lang="en-US" sz="1400" spc="-1" strike="noStrike">
                <a:solidFill>
                  <a:srgbClr val="646b86"/>
                </a:solidFill>
                <a:latin typeface="Georgia"/>
              </a:rPr>
              <a:t>button</a:t>
            </a:r>
            <a:endParaRPr b="0" lang="en-US" sz="1400" spc="-1" strike="noStrike">
              <a:solidFill>
                <a:srgbClr val="646b86"/>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If the Network is dow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use </a:t>
            </a:r>
            <a:r>
              <a:rPr b="0" i="1" lang="en-US" sz="1400" spc="-1" strike="noStrike">
                <a:solidFill>
                  <a:srgbClr val="000000"/>
                </a:solidFill>
                <a:latin typeface="Georgia"/>
              </a:rPr>
              <a:t>Follett Remot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book and patron barcodes can be recorded in a text file at checkout and later downloaded into Destiny</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ree ways to get help:</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via telephone – 800 number</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Help </a:t>
            </a:r>
            <a:r>
              <a:rPr b="0" lang="en-US" sz="1400" spc="-1" strike="noStrike">
                <a:solidFill>
                  <a:srgbClr val="000000"/>
                </a:solidFill>
                <a:latin typeface="Georgia"/>
              </a:rPr>
              <a:t>button</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Online tutorials</a:t>
            </a:r>
            <a:endParaRPr b="0" lang="en-US" sz="1400" spc="-1" strike="noStrike">
              <a:solidFill>
                <a:srgbClr val="000000"/>
              </a:solidFill>
              <a:latin typeface="Georgia"/>
            </a:endParaRPr>
          </a:p>
          <a:p>
            <a:pPr marL="272880" indent="-2728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7b9899"/>
                </a:solidFill>
                <a:latin typeface="Georgia"/>
              </a:rPr>
              <a:t> </a:t>
            </a:r>
            <a:r>
              <a:rPr b="1" lang="en-US" sz="3300" spc="-1" strike="noStrike">
                <a:solidFill>
                  <a:srgbClr val="7b9899"/>
                </a:solidFill>
                <a:latin typeface="Georgia"/>
              </a:rPr>
              <a:t>OPTIONS</a:t>
            </a:r>
            <a:endParaRPr b="0" lang="en-US" sz="3300" spc="-1" strike="noStrike">
              <a:solidFill>
                <a:srgbClr val="7b9899"/>
              </a:solidFill>
              <a:latin typeface="Georgia"/>
            </a:endParaRPr>
          </a:p>
        </p:txBody>
      </p:sp>
      <p:sp>
        <p:nvSpPr>
          <p:cNvPr id="637" name=""/>
          <p:cNvSpPr txBox="1"/>
          <p:nvPr/>
        </p:nvSpPr>
        <p:spPr>
          <a:xfrm>
            <a:off x="301320" y="1527120"/>
            <a:ext cx="8504280" cy="4572000"/>
          </a:xfrm>
          <a:prstGeom prst="rect">
            <a:avLst/>
          </a:prstGeom>
          <a:noFill/>
          <a:ln w="0">
            <a:noFill/>
          </a:ln>
        </p:spPr>
        <p:txBody>
          <a:bodyPr anchor="t">
            <a:normAutofit/>
          </a:bodyPr>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Web-Path Express</a:t>
            </a:r>
            <a:r>
              <a:rPr b="0" lang="en-US" sz="1400" spc="-1" strike="noStrike">
                <a:solidFill>
                  <a:srgbClr val="000000"/>
                </a:solidFill>
                <a:latin typeface="Georgia"/>
              </a:rPr>
              <a:t> - helps students find age-appropriate Web sites for research</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Standards Search</a:t>
            </a:r>
            <a:r>
              <a:rPr b="0" lang="en-US" sz="1400" spc="-1" strike="noStrike">
                <a:solidFill>
                  <a:srgbClr val="000000"/>
                </a:solidFill>
                <a:latin typeface="Georgia"/>
              </a:rPr>
              <a:t> - you can find thousands of resources already aligned to your state's learning standard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Reading Programs</a:t>
            </a:r>
            <a:r>
              <a:rPr b="0" i="1" lang="en-US" sz="1400" spc="-1" strike="noStrike">
                <a:solidFill>
                  <a:srgbClr val="000000"/>
                </a:solidFill>
                <a:latin typeface="Georgia"/>
              </a:rPr>
              <a:t> -</a:t>
            </a:r>
            <a:r>
              <a:rPr b="0" lang="en-US" sz="1400" spc="-1" strike="noStrike">
                <a:solidFill>
                  <a:srgbClr val="000000"/>
                </a:solidFill>
                <a:latin typeface="Georgia"/>
              </a:rPr>
              <a:t> once enabled - Accelerated Reader, Reading Counts, and lexile measures can be searched.  Quiz files can be uploaded.</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Title Peak</a:t>
            </a:r>
            <a:r>
              <a:rPr b="0" i="1" lang="en-US" sz="1400" spc="-1" strike="noStrike">
                <a:solidFill>
                  <a:srgbClr val="000000"/>
                </a:solidFill>
                <a:latin typeface="Georgia"/>
              </a:rPr>
              <a:t> –</a:t>
            </a:r>
            <a:r>
              <a:rPr b="0" lang="en-US" sz="1400" spc="-1" strike="noStrike">
                <a:solidFill>
                  <a:srgbClr val="000000"/>
                </a:solidFill>
                <a:latin typeface="Georgia"/>
              </a:rPr>
              <a:t> book cover picture is provided, with access to table of contents, author notes, and journal review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One Search</a:t>
            </a:r>
            <a:r>
              <a:rPr b="0" i="1" lang="en-US" sz="1400" spc="-1" strike="noStrike">
                <a:solidFill>
                  <a:srgbClr val="000000"/>
                </a:solidFill>
                <a:latin typeface="Georgia"/>
              </a:rPr>
              <a:t> – </a:t>
            </a:r>
            <a:r>
              <a:rPr b="0" lang="en-US" sz="1400" spc="-1" strike="noStrike">
                <a:solidFill>
                  <a:srgbClr val="000000"/>
                </a:solidFill>
                <a:latin typeface="Georgia"/>
              </a:rPr>
              <a:t>patron may search for both online resources and catalog resources at the same time.</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Georgia"/>
              </a:rPr>
              <a:t>Find-</a:t>
            </a:r>
            <a:r>
              <a:rPr b="0" lang="en-US" sz="1400" spc="-1" strike="noStrike">
                <a:solidFill>
                  <a:srgbClr val="000000"/>
                </a:solidFill>
                <a:latin typeface="Georgia"/>
              </a:rPr>
              <a:t>a-Book – helps patrons find books associated with </a:t>
            </a:r>
            <a:r>
              <a:rPr b="0" i="1" lang="en-US" sz="1400" spc="-1" strike="noStrike">
                <a:solidFill>
                  <a:srgbClr val="000000"/>
                </a:solidFill>
                <a:latin typeface="Georgia"/>
              </a:rPr>
              <a:t>Reading Counts, Accelerated Reader, or by Lexile Level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 </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Products to manage textbooks, media products and materials, and other assets.</a:t>
            </a:r>
            <a:endParaRPr b="0" lang="en-US" sz="1400" spc="-1" strike="noStrike">
              <a:solidFill>
                <a:srgbClr val="000000"/>
              </a:solidFill>
              <a:latin typeface="Georgia"/>
            </a:endParaRPr>
          </a:p>
          <a:p>
            <a:pPr marL="272880" indent="-272880">
              <a:spcBef>
                <a:spcPts val="34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In conclusion…</a:t>
            </a:r>
            <a:endParaRPr b="0" lang="en-US" sz="3300" spc="-1" strike="noStrike">
              <a:solidFill>
                <a:srgbClr val="7b9899"/>
              </a:solidFill>
              <a:latin typeface="Georgia"/>
            </a:endParaRPr>
          </a:p>
        </p:txBody>
      </p:sp>
      <p:sp>
        <p:nvSpPr>
          <p:cNvPr id="63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s your professional, library media specialists, we highly recommend Destiny Automation system for the three libraries at Bailey School District.  </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urrently, without automation, we are not able to help students, teachers or administration with the information or help they need.</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ank you for your time.</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irculation</a:t>
            </a:r>
            <a:endParaRPr b="0" lang="en-US" sz="3300" spc="-1" strike="noStrike">
              <a:solidFill>
                <a:srgbClr val="7b9899"/>
              </a:solidFill>
              <a:latin typeface="Georgia"/>
            </a:endParaRPr>
          </a:p>
        </p:txBody>
      </p:sp>
      <p:sp>
        <p:nvSpPr>
          <p:cNvPr id="60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t a glance, we can locate, report and determine the status of every library resourc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 accountability will improve and the district will see a reduction in inventory loss and the associated replacement cost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 can track and report on library inventory by patron, resource, title, building or district.</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ustomization available</a:t>
            </a:r>
            <a:endParaRPr b="0" lang="en-US" sz="3300" spc="-1" strike="noStrike">
              <a:solidFill>
                <a:srgbClr val="7b9899"/>
              </a:solidFill>
              <a:latin typeface="Georgia"/>
            </a:endParaRPr>
          </a:p>
        </p:txBody>
      </p:sp>
      <p:sp>
        <p:nvSpPr>
          <p:cNvPr id="611"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tudents and parents can receive an email reminder of overdue materia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e program will follow students as they move through the school, from Kindergarten to their senior yea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fferent policies can be customized for each library:</a:t>
            </a:r>
            <a:endParaRPr b="0" lang="en-US" sz="18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Loan periods and possible fines can be individualized for each building’s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Renewal periods can be set up for each library.</a:t>
            </a:r>
            <a:endParaRPr b="0" lang="en-US" sz="1400" spc="-1" strike="noStrike">
              <a:solidFill>
                <a:srgbClr val="000000"/>
              </a:solidFill>
              <a:latin typeface="Georgia"/>
            </a:endParaRPr>
          </a:p>
          <a:p>
            <a:pPr lvl="2" marL="822240" indent="-228600">
              <a:spcBef>
                <a:spcPts val="349"/>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eorgia"/>
              </a:rPr>
              <a:t>The system can inform us if a hold is requested for a particular book for another patron.</a:t>
            </a:r>
            <a:endParaRPr b="0" lang="en-US" sz="1400" spc="-1" strike="noStrike">
              <a:solidFill>
                <a:srgbClr val="000000"/>
              </a:solidFill>
              <a:latin typeface="Georgia"/>
            </a:endParaRPr>
          </a:p>
          <a:p>
            <a:pPr lvl="2" marL="82224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Adding a Title</a:t>
            </a:r>
            <a:endParaRPr b="0" lang="en-US" sz="3300" spc="-1" strike="noStrike">
              <a:solidFill>
                <a:srgbClr val="7b9899"/>
              </a:solidFill>
              <a:latin typeface="Georgia"/>
            </a:endParaRPr>
          </a:p>
        </p:txBody>
      </p:sp>
      <p:sp>
        <p:nvSpPr>
          <p:cNvPr id="613"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efore you add a new title, Destiny requires you search for a title in the databa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n  existing record will be indicated by a red schoolhouse</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there is no existing record listed, you may search Alliance Plus or Z-sources.</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If you can’t find the record in the database, you may create your own record using the MARC Editor or Easy MARC Edito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ataloging:  Other Features</a:t>
            </a:r>
            <a:endParaRPr b="0" lang="en-US" sz="3300" spc="-1" strike="noStrike">
              <a:solidFill>
                <a:srgbClr val="7b9899"/>
              </a:solidFill>
              <a:latin typeface="Georgia"/>
            </a:endParaRPr>
          </a:p>
        </p:txBody>
      </p:sp>
      <p:sp>
        <p:nvSpPr>
          <p:cNvPr id="615"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barcodes and call numbers and print label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dd digital resources such as music, sound effects and lesson plans to each title rec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reate temporary titles when you need a quick record for checkout.</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	</a:t>
            </a:r>
            <a:r>
              <a:rPr b="0" lang="en-US" sz="1800" spc="-1" strike="noStrike">
                <a:solidFill>
                  <a:srgbClr val="000000"/>
                </a:solidFill>
                <a:latin typeface="Georgia"/>
              </a:rPr>
              <a:t>Good for magazines, student-published items, et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Weeding log outlines book information, who removed the copy, and a total count of items that were deleted or weeded.</a:t>
            </a: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Online Card Catalog – Search Features</a:t>
            </a:r>
            <a:endParaRPr b="0" lang="en-US" sz="3300" spc="-1" strike="noStrike">
              <a:solidFill>
                <a:srgbClr val="7b9899"/>
              </a:solidFill>
              <a:latin typeface="Georgia"/>
            </a:endParaRPr>
          </a:p>
        </p:txBody>
      </p:sp>
      <p:sp>
        <p:nvSpPr>
          <p:cNvPr id="617" name=""/>
          <p:cNvSpPr txBox="1"/>
          <p:nvPr/>
        </p:nvSpPr>
        <p:spPr>
          <a:xfrm>
            <a:off x="301320" y="1527120"/>
            <a:ext cx="8504280" cy="4572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hree ways to search:</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Basic</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 (great for kids learning to read or spell)</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Power (</a:t>
            </a:r>
            <a:r>
              <a:rPr b="0" i="1" lang="en-US" sz="1800" spc="-1" strike="noStrike">
                <a:solidFill>
                  <a:srgbClr val="000000"/>
                </a:solidFill>
                <a:latin typeface="Georgia"/>
              </a:rPr>
              <a:t>And</a:t>
            </a:r>
            <a:r>
              <a:rPr b="0" lang="en-US" sz="1800" spc="-1" strike="noStrike">
                <a:solidFill>
                  <a:srgbClr val="000000"/>
                </a:solidFill>
                <a:latin typeface="Georgia"/>
              </a:rPr>
              <a:t>, </a:t>
            </a:r>
            <a:r>
              <a:rPr b="0" i="1" lang="en-US" sz="1800" spc="-1" strike="noStrike">
                <a:solidFill>
                  <a:srgbClr val="000000"/>
                </a:solidFill>
                <a:latin typeface="Georgia"/>
              </a:rPr>
              <a:t>Or</a:t>
            </a:r>
            <a:r>
              <a:rPr b="0" lang="en-US" sz="1800" spc="-1" strike="noStrike">
                <a:solidFill>
                  <a:srgbClr val="000000"/>
                </a:solidFill>
                <a:latin typeface="Georgia"/>
              </a:rPr>
              <a:t> and </a:t>
            </a:r>
            <a:r>
              <a:rPr b="0" i="1" lang="en-US" sz="1800" spc="-1" strike="noStrike">
                <a:solidFill>
                  <a:srgbClr val="000000"/>
                </a:solidFill>
                <a:latin typeface="Georgia"/>
              </a:rPr>
              <a:t>But Not </a:t>
            </a:r>
            <a:r>
              <a:rPr b="0" lang="en-US" sz="1800" spc="-1" strike="noStrike">
                <a:solidFill>
                  <a:srgbClr val="000000"/>
                </a:solidFill>
                <a:latin typeface="Georgia"/>
              </a:rPr>
              <a:t>connections)</a:t>
            </a:r>
            <a:r>
              <a:rPr b="0" lang="en-US" sz="1800" spc="-1" strike="noStrike">
                <a:solidFill>
                  <a:srgbClr val="000000"/>
                </a:solidFill>
                <a:latin typeface="Georgia"/>
              </a:rPr>
              <a:t>	</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eorgia"/>
            </a:endParaRPr>
          </a:p>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arch by:</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Keyword</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Author</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ubje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eri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ll Number</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7b9899"/>
                </a:solidFill>
                <a:latin typeface="Georgia"/>
              </a:rPr>
              <a:t>ONLINE CARD CATALOG- ADDITIONAL FEATURES</a:t>
            </a:r>
            <a:endParaRPr b="0" lang="en-US" sz="3000" spc="-1" strike="noStrike">
              <a:solidFill>
                <a:srgbClr val="7b9899"/>
              </a:solidFill>
              <a:latin typeface="Georgia"/>
            </a:endParaRPr>
          </a:p>
        </p:txBody>
      </p:sp>
      <p:sp>
        <p:nvSpPr>
          <p:cNvPr id="619" name=""/>
          <p:cNvSpPr txBox="1"/>
          <p:nvPr/>
        </p:nvSpPr>
        <p:spPr>
          <a:xfrm>
            <a:off x="301320" y="1527120"/>
            <a:ext cx="8504280" cy="4572000"/>
          </a:xfrm>
          <a:prstGeom prst="rect">
            <a:avLst/>
          </a:prstGeom>
          <a:noFill/>
          <a:ln w="0">
            <a:noFill/>
          </a:ln>
        </p:spPr>
        <p:txBody>
          <a:bodyPr anchor="t">
            <a:normAutofit/>
          </a:bodyPr>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Visually appealing.</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n retrieve previous searche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itle records are shared throughout the District.</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Teachers can create relevant content bibliographies for students to search on specific topics.</a:t>
            </a:r>
            <a:endParaRPr b="0" lang="en-US" sz="1800" spc="-1" strike="noStrike">
              <a:solidFill>
                <a:srgbClr val="000000"/>
              </a:solidFill>
              <a:latin typeface="Georgia"/>
            </a:endParaRPr>
          </a:p>
          <a:p>
            <a:pPr marL="272880" indent="-272880">
              <a:spcBef>
                <a:spcPts val="45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Showcase your collection:</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Top 10 circulating books.</a:t>
            </a:r>
            <a:endParaRPr b="0" lang="en-US" sz="1800" spc="-1" strike="noStrike">
              <a:solidFill>
                <a:srgbClr val="000000"/>
              </a:solidFill>
              <a:latin typeface="Georgia"/>
            </a:endParaRPr>
          </a:p>
          <a:p>
            <a:pPr lvl="2" marL="822240" indent="-228600">
              <a:spcBef>
                <a:spcPts val="451"/>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Display the 10 newest arrivals.</a:t>
            </a:r>
            <a:endParaRPr b="0" lang="en-US" sz="18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Collection Statistics summary - Summary of circulation statistics, average ages, and values; organized by call numb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abels - Create copy labels based on titles in the lis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Barcode lists - Create a list of used or unused barcodes this provide a rang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Hold Statistics - Examine how often patrons are placing holds/reserves of books in the collection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Ready Hold Notices - Provides notice to patrons when the items they requested are ready to pick up </a:t>
            </a:r>
            <a:endParaRPr b="0" lang="en-US" sz="1800" spc="-1" strike="noStrike">
              <a:solidFill>
                <a:srgbClr val="000000"/>
              </a:solidFill>
              <a:latin typeface="Arial"/>
            </a:endParaRPr>
          </a:p>
        </p:txBody>
      </p:sp>
      <p:sp>
        <p:nvSpPr>
          <p:cNvPr id="62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Destiny Reports</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Arial"/>
            </a:endParaRPr>
          </a:p>
        </p:txBody>
      </p:sp>
      <p:sp>
        <p:nvSpPr>
          <p:cNvPr id="623"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Types of Reports cont.</a:t>
            </a:r>
            <a:endParaRPr b="0" lang="en-US" sz="3300" spc="-1" strike="noStrike">
              <a:solidFill>
                <a:srgbClr val="7b9899"/>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 </cp:lastModifiedBy>
  <dcterms:modified xsi:type="dcterms:W3CDTF">2009-07-11T18:40:48Z</dcterms:modified>
  <cp:revision>23</cp:revision>
  <dc:subject/>
  <dc:title>Slide 1</dc:title>
</cp:coreProperties>
</file>