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4CC35-3B5C-4339-A923-66DED33A3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D14D2-CB7D-4507-B6D3-05AFE2B7D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71CB47C-C400-47A9-9A31-C7D21F3AFFC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9453321-7A57-4332-872A-496C4EF4CB4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6D1EC85-85D2-4CF5-A8D2-724BF8A2897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D9086C5-79FB-4B87-9912-1491A7DA5D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D710F1-9880-49CF-971E-FF5379750A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DCC8BE9-AA3D-475A-AA65-A48E4A1F0F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3B3CCE-CA4C-46A7-85AA-BEC304C143E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1918646-03AD-4C2A-81D7-3164385C97A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16C91A8-5C3D-4ECA-B5E0-373B8DB35C9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208F9E2-384F-4AE5-A9C8-1A483EF3F2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11F84-EFF3-4C2A-B3BC-C67BEC7AE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B9025DD-DC04-4C0A-8FB5-8536134C72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B9EA91F-0E0C-4ABD-AABC-F2760BEC6A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3D05D24-DBE1-4B9F-9C75-211A04147D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C942D8A-DD88-413C-9BCF-0C5AC20662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B97CBEB-64AD-4A62-8EF9-325F1040F5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30FA29-0DAE-4DB0-AC35-865E291EB4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26B468-E0B3-40B9-9443-C7E70C2E61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2C37C4-9F56-4772-BD8E-741F6B88BD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B14CF9C-CA45-4DBD-96EE-191C87879C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8CF1F2-257A-4309-BB7B-1296E70439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179B2-8C95-4457-AF30-9468570F0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02888DC-B276-413F-941B-9DD04888C8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875459-F498-4D8E-B2AA-DB353E3C97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02C5B4-A564-4AE2-90EE-D160D3F37C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BDF798-5203-41CF-B86F-774C599B2B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1CD561-A426-40C8-A554-F21A611BE9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B54803-51CA-4123-9E36-73C5AEDE0F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27DAF7-A91C-4E24-9DF5-62567E23FB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4D67CC-DA9A-42E3-BA33-C5D3018794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8947C0-72C2-4316-B36D-4D37553196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EB7EE2-F12E-428C-822C-0C866977F3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4E2CB-64D2-4275-9C8A-D8A3C2773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645715-6692-4328-AF7E-40F544005B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EB0823-82DF-43FF-8ECE-251914F1BC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EFDD0D-627F-47A8-ABFA-FC151127E0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71B2DBE-AEB7-4398-9EFB-319D4EA903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D1F0AA6-46F5-4DA1-BFA0-2AC6559C7C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BB0BAA7-682C-434D-BF30-BF9CC2D57E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2BB22B8-019B-435B-ADC1-BB83C4D82C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6585D44-E666-4767-9952-01633EDE5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1EA7A80-239D-4D21-AC57-5BCC952CF4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2B464F0-7E4E-46F4-8C0E-BF9D3564D7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2D744-1CDF-4606-94AD-2B4282423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7FB8D4-EEE9-4BAC-9D1F-00BF38ADBD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54F9E88-BB44-4AE5-8151-DA0869D05A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3A3FAE7-79A5-412D-B827-CAFF17FDCA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345225F-86D6-44D9-A72B-86326F5422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45D0975-AE7C-48D6-BA82-1C83C4477E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98936-1ABD-4B79-91B7-71A99DC37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2E78F-B421-4F78-9098-A4AEDC9BD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1C44D-6872-469C-9020-B95EB3058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4255F-D9B9-4772-A59B-E56D86C02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37238-6F7B-4131-A7E2-BA6402F4C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C00CF-2877-47E5-856B-359D0F331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A57DB-7A9B-499E-92BE-13F0BDA17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73893-0F48-4DC8-9D5C-97F2B01E7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BB441-3547-4DCE-98CC-5C3F9D849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5D6F4-AF8C-4C12-BD6E-B78E38716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9DC8D-E714-46A4-8E77-2C1A6B9E3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ACEC20-EEC1-4797-A5E5-D55F963A0F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46683-BBAA-40C6-927B-D5D7F0F4B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5CAAE4-B265-4CD9-A059-F433088FD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D0364-8FAD-41AA-B4F5-F32FCDDED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DFD82-A73A-4F9B-ABD3-CA4E2B57E7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88360-7FBA-41B4-B00E-35148BA6E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0C2AD-F45D-447E-B83D-6AF5187AA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178CD-58B3-4DFC-BA91-F9DEAF29F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FF066-8403-4CEB-AF6D-D55171F67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3EE1D-8CCD-4A85-BEFB-7DF235DD1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38316-1163-4EFC-80DE-E6AC1A7BF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55A965-11BA-4573-8114-710E7D1098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7C8BEF-69D9-43BE-93DD-9B2861360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2E2CAB0-561D-4CAA-9B7A-2DA9486E2D8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B4B6836-6A38-4611-BD21-96DED79851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49C5E90-C04D-40F2-95D2-94CCB221E6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E2791-668D-4EAC-B20B-CCE751C8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25C835F-9DDF-491A-8990-1DEF8A1B0E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61E0227-770B-490F-9573-BB4F670D27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3401061-0A2E-403E-977B-A9B5B6950C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E9CE5C-A43E-41E9-AB06-4BA23D375D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8400F76-B0E9-46EA-BC8A-F17CAD756D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8DAA26B-8DE4-4EA1-B909-EAA944E167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C40259A-3F4C-445A-845F-5BAF6FFF08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A566785-23DA-44BA-99B4-FDFEC0823FA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77E5E25-8BE0-4A5C-AB0E-D29CCE75FA8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06572E-9FBA-4E7B-961B-53EE0DE431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EAEE5-CCEE-4940-B523-5A2A8EF5F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4064A-61BC-4364-9748-DC31EB4D1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AF9FE-DBFE-4427-A116-99A7A895AF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DF874-4C27-4013-93C8-E254A83E8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522C54-2F81-4350-AA71-132280D6E5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9FF97-B5F2-4E66-83C1-657F00EF28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8FF31-065F-48DE-88B2-75B744090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B9F5B-7D63-4CF0-8CE4-8281AD0D5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EAC2E-310B-4C0D-BD3E-A255712C5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2E013-66FD-47F4-89AA-AC971B6E1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7E4573-3EF8-4A6B-A5AA-B3647C16F5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8BDD7-2676-471E-97CF-EE793D2FE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F2C6C0-E869-4042-B661-3AC96C7306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B19DA4-24C7-4559-B324-4083ED0401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2EEB7-6405-4FD6-AE92-6737B65881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AE8BC-843D-4A7B-9B87-EA9093005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80EFA-119F-430D-BF13-CD3E35BF1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11C08B-B249-4F44-9A47-40BFDABC0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0DAB4-F88D-4B98-B635-7A9EE773B9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3D2FB-61ED-4DD4-BED3-50A701139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7F42B-C206-42C8-BE7C-7471C2856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02F9D-B55F-4764-85DD-BCE88DD17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8997F-13DE-4878-9398-E84B31B20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B8BAA7-9989-4266-8176-C55FB7B44A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5F2317-93B0-4DCF-BBD6-4D00446407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558D8F-32A2-4ECA-9DCA-0C2193D366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E67004-E98E-4A13-9C53-8720655E28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CA393-AC9C-4E47-8BDF-2C40D1C444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76BD30-8780-42A0-AA59-5C6FEDF856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77F14-8338-489E-8ABD-6BA8A3429E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14F795-8227-4DE9-8F6B-474A0419F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522B07-BFB7-4AA6-85CB-3301ED7337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C5284-B221-4247-A5C5-080420F569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0333B-47F0-48E2-85EF-DFF301B5D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0CD19-8E9E-471F-8572-DA1FFD017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81C08-7434-4ED2-9330-32A3527D8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666B0-2957-49A7-9B9E-7A638F6DB7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77BE7A-E9B0-4376-B386-88CF59FDC9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0244AA-0074-47C1-8D53-67931FBB03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0B202E-2CAA-4D1C-B5A5-77E90F68E6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54C33D-EDED-4ACF-8933-A2BE1F0EA8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E04CF-8534-49E4-98E4-F67A73921E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6D2CF1-18CB-465B-A7BA-0C4E286A3A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E6F1C8-5DD4-4C23-8B38-878E35D609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0B6D-7B8F-4102-8672-D2402069C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4F6211-46F8-47FA-A353-14D1159EC5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271F9A-F252-48AD-9346-4C3B79A6E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88AF1-BEF3-4E40-AD68-CB600973ED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9C4836-B599-4CE4-A730-B4F614D10E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BD8183-871D-4DBB-89D7-B6000CE3D0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185F1C-130E-426E-A75D-611D2DDB38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9B01F8-F2B9-424E-8453-999362EFAB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3DD976D-7FFA-472B-9D62-CAECAFC081A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1E8493A-8578-4CB6-A8A0-FF0058DDFAB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7928259-1FFC-48F9-B634-9F51B22B471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03B6-316E-478A-91CE-DA867736CCE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890C-5E1F-4A34-A49E-E96E43254BC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C098-7F3E-4475-988C-F1E7F80EDAB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39CA-A3B2-4B25-88EE-B8B5E012FCA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E7CB-CEDA-44C7-9895-EA44A2904C8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4A20-BDA0-4611-9A8B-356C48D9E91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6B25-2AEC-486A-A8D3-B37ECC01454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8F8F-F680-4D05-B46D-43C6DA9CD6C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F791-1C02-46C3-897F-8463B695CED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DDFD-0B01-4CC1-8880-4E485D326ED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3EB8-962E-4992-A31D-74AC17BDEC7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87D6-86ED-413E-8889-4E660806D01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 LIBRARY AUTOMATION SYSTEM THAT WILL BENEFIT ALL OF U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Destiny will help  Bailey School District reach its Goa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stiny Report extras</a:t>
            </a:r>
            <a:endParaRPr b="0" lang="en-US" sz="3300" spc="-1" strike="noStrike">
              <a:solidFill>
                <a:srgbClr val="7b9899"/>
              </a:solidFill>
              <a:latin typeface="Georgia"/>
            </a:endParaRPr>
          </a:p>
        </p:txBody>
      </p:sp>
      <p:sp>
        <p:nvSpPr>
          <p:cNvPr id="625"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r example, if you want your fine/overdue lists every Monday morning,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8:00, you can set it up to do th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Students will like that Destiny allows them to:</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the program anywhere in the school.</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rite book reviews for other students with librarian approval.</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ommend books to other people.</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t books on hold.</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books, through th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Find-a-book</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feature, that is connected to Reading Counts, Accelerated Reader, or Lexile level.</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lists of books, websites, and online resources that they want read.</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Arial"/>
              </a:rPr>
              <a:t>Teachers will like that Destiny allows them to:</a:t>
            </a:r>
            <a:endParaRPr b="0" lang="en-US" sz="30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out which students are using the library the most.</a:t>
            </a: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Destiny online anywhere and at any time</a:t>
            </a:r>
            <a:r>
              <a:rPr b="0" lang="en-US" sz="1600" spc="-1" strike="noStrike">
                <a:solidFill>
                  <a:srgbClr val="000000"/>
                </a:solidFill>
                <a:latin typeface="Arial"/>
              </a:rPr>
              <a:t>.</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content bibliographies for students to search on specific topics utilizing the category segment.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their students through their K-12 years.</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sh for a book with the request being sent to the librarian.</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into “MyInfo” to see their patron information</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Parents will like that Destiny allows them to</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he library card catalog 24/7</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safe, educational K-12 websites that are linked to Destiny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books age-appropriate for their children through the “Find a Book” feature</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THER NOTABLE FEATURE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b-based automation system - installed on a single server, intuitive and fast</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addition to library automation, Destiny offers products to manage library resources, textbooks, media materials, equipment and other asset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Different levels of access for library administrator, library staff, and patrons.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ventory:</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an be done any time of the yea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an do partial, full, or special circulation type inventorie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ree ways to get help</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  800 numbe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  Help butto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  Online tutorials</a:t>
            </a:r>
            <a:endParaRPr b="0" lang="en-US" sz="1400" spc="-1" strike="noStrike">
              <a:solidFill>
                <a:srgbClr val="000000"/>
              </a:solidFill>
              <a:latin typeface="Georgia"/>
            </a:endParaRPr>
          </a:p>
          <a:p>
            <a:pPr marL="272880" indent="-272880">
              <a:spcBef>
                <a:spcPts val="1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f the network is down:</a:t>
            </a:r>
            <a:endParaRPr b="0" lang="en-US" sz="1400" spc="-1" strike="noStrike">
              <a:solidFill>
                <a:srgbClr val="000000"/>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Use Follett Remote</a:t>
            </a:r>
            <a:endParaRPr b="0" lang="en-US" sz="1300" spc="-1" strike="noStrike">
              <a:solidFill>
                <a:srgbClr val="646b86"/>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Book and patron barcodes can be recorded to a text file at checkout and later downloaded into Destiny.</a:t>
            </a:r>
            <a:endParaRPr b="0" lang="en-US" sz="1300" spc="-1" strike="noStrike">
              <a:solidFill>
                <a:srgbClr val="646b86"/>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r>
              <a:rPr b="1" lang="en-US" sz="3300" spc="-1" strike="noStrike">
                <a:solidFill>
                  <a:srgbClr val="7b9899"/>
                </a:solidFill>
                <a:latin typeface="Georgia"/>
              </a:rPr>
              <a:t>STRONG SUPPORT</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ree ways to get help:</a:t>
            </a:r>
            <a:endParaRPr b="0" lang="en-US" sz="1800" spc="-1" strike="noStrike">
              <a:solidFill>
                <a:srgbClr val="000000"/>
              </a:solidFill>
              <a:latin typeface="Georgia"/>
            </a:endParaRPr>
          </a:p>
          <a:p>
            <a:pPr lvl="1" marL="547560" indent="-272880">
              <a:spcBef>
                <a:spcPts val="3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Georgia"/>
              </a:rPr>
              <a:t>via telephone – 800 number</a:t>
            </a:r>
            <a:endParaRPr b="0" lang="en-US" sz="1400" spc="-1" strike="noStrike">
              <a:solidFill>
                <a:srgbClr val="646b86"/>
              </a:solidFill>
              <a:latin typeface="Georgia"/>
            </a:endParaRPr>
          </a:p>
          <a:p>
            <a:pPr lvl="1" marL="547560" indent="-272880">
              <a:spcBef>
                <a:spcPts val="3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46b86"/>
                </a:solidFill>
                <a:latin typeface="Georgia"/>
              </a:rPr>
              <a:t>Help </a:t>
            </a:r>
            <a:r>
              <a:rPr b="0" lang="en-US" sz="1400" spc="-1" strike="noStrike">
                <a:solidFill>
                  <a:srgbClr val="646b86"/>
                </a:solidFill>
                <a:latin typeface="Georgia"/>
              </a:rPr>
              <a:t>button</a:t>
            </a:r>
            <a:endParaRPr b="0" lang="en-US" sz="1400" spc="-1" strike="noStrike">
              <a:solidFill>
                <a:srgbClr val="646b86"/>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Online tutorial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f the Network is dow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use </a:t>
            </a:r>
            <a:r>
              <a:rPr b="0" i="1" lang="en-US" sz="1400" spc="-1" strike="noStrike">
                <a:solidFill>
                  <a:srgbClr val="000000"/>
                </a:solidFill>
                <a:latin typeface="Georgia"/>
              </a:rPr>
              <a:t>Follett Remote.</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ook and patron barcodes can be recorded in a text file at checkout and later downloaded into Destiny</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ree ways to get help:</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via telephone – 800 numbe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Help </a:t>
            </a:r>
            <a:r>
              <a:rPr b="0" lang="en-US" sz="1400" spc="-1" strike="noStrike">
                <a:solidFill>
                  <a:srgbClr val="000000"/>
                </a:solidFill>
                <a:latin typeface="Georgia"/>
              </a:rPr>
              <a:t>butto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nline tutorial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r>
              <a:rPr b="1" lang="en-US" sz="3300" spc="-1" strike="noStrike">
                <a:solidFill>
                  <a:srgbClr val="7b9899"/>
                </a:solidFill>
                <a:latin typeface="Georgia"/>
              </a:rPr>
              <a:t>OPTION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Web-Path Express</a:t>
            </a:r>
            <a:r>
              <a:rPr b="0" lang="en-US" sz="1400" spc="-1" strike="noStrike">
                <a:solidFill>
                  <a:srgbClr val="000000"/>
                </a:solidFill>
                <a:latin typeface="Georgia"/>
              </a:rPr>
              <a:t> - helps students find age-appropriate Web sites for research</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Standards Search</a:t>
            </a:r>
            <a:r>
              <a:rPr b="0" lang="en-US" sz="1400" spc="-1" strike="noStrike">
                <a:solidFill>
                  <a:srgbClr val="000000"/>
                </a:solidFill>
                <a:latin typeface="Georgia"/>
              </a:rPr>
              <a:t> - you can find thousands of resources already aligned to your state's learning standard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Reading Programs</a:t>
            </a:r>
            <a:r>
              <a:rPr b="0" i="1" lang="en-US" sz="1400" spc="-1" strike="noStrike">
                <a:solidFill>
                  <a:srgbClr val="000000"/>
                </a:solidFill>
                <a:latin typeface="Georgia"/>
              </a:rPr>
              <a:t> -</a:t>
            </a:r>
            <a:r>
              <a:rPr b="0" lang="en-US" sz="1400" spc="-1" strike="noStrike">
                <a:solidFill>
                  <a:srgbClr val="000000"/>
                </a:solidFill>
                <a:latin typeface="Georgia"/>
              </a:rPr>
              <a:t> once enabled - Accelerated Reader, Reading Counts, and lexile measures can be searched.  Quiz files can be uploaded.</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Title Peak</a:t>
            </a:r>
            <a:r>
              <a:rPr b="0" i="1" lang="en-US" sz="1400" spc="-1" strike="noStrike">
                <a:solidFill>
                  <a:srgbClr val="000000"/>
                </a:solidFill>
                <a:latin typeface="Georgia"/>
              </a:rPr>
              <a:t> –</a:t>
            </a:r>
            <a:r>
              <a:rPr b="0" lang="en-US" sz="1400" spc="-1" strike="noStrike">
                <a:solidFill>
                  <a:srgbClr val="000000"/>
                </a:solidFill>
                <a:latin typeface="Georgia"/>
              </a:rPr>
              <a:t> book cover picture is provided, with access to table of contents, author notes, and journal review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One Search</a:t>
            </a:r>
            <a:r>
              <a:rPr b="0" i="1" lang="en-US" sz="1400" spc="-1" strike="noStrike">
                <a:solidFill>
                  <a:srgbClr val="000000"/>
                </a:solidFill>
                <a:latin typeface="Georgia"/>
              </a:rPr>
              <a:t> – </a:t>
            </a:r>
            <a:r>
              <a:rPr b="0" lang="en-US" sz="1400" spc="-1" strike="noStrike">
                <a:solidFill>
                  <a:srgbClr val="000000"/>
                </a:solidFill>
                <a:latin typeface="Georgia"/>
              </a:rPr>
              <a:t>patron may search for both online resources and catalog resources at the same time.</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Find-</a:t>
            </a:r>
            <a:r>
              <a:rPr b="0" lang="en-US" sz="1400" spc="-1" strike="noStrike">
                <a:solidFill>
                  <a:srgbClr val="000000"/>
                </a:solidFill>
                <a:latin typeface="Georgia"/>
              </a:rPr>
              <a:t>a-Book – helps patrons find books associated with </a:t>
            </a:r>
            <a:r>
              <a:rPr b="0" i="1" lang="en-US" sz="1400" spc="-1" strike="noStrike">
                <a:solidFill>
                  <a:srgbClr val="000000"/>
                </a:solidFill>
                <a:latin typeface="Georgia"/>
              </a:rPr>
              <a:t>Reading Counts, Accelerated Reader, or by Lexile Level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Products to manage textbooks, media products and materials, and other asset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 conclusion…</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 your professional, library media specialists, we highly recommend Destiny Automation system for the three libraries at Bailey School Distric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rrently, without automation, we are not able to help students, teachers or administration with the information or help they ne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ank you for your tim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irculation</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 glance, we can locate, report and determine the status of every library resourc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 accountability will improve and the district will see a reduction in inventory loss and the associated replacement cost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 can track and report on library inventory by patron, resource, title, building or district.</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stomization available</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s and parents can receive an email reminder of overdue material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rogram will follow students as they move through the school, from Kindergarten to their senior yea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fferent policies can be customized for each library:</a:t>
            </a:r>
            <a:endParaRPr b="0" lang="en-US" sz="18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oan periods and possible fines can be individualized for each building’s library.</a:t>
            </a:r>
            <a:endParaRPr b="0" lang="en-US" sz="14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enewal periods can be set up for each library.</a:t>
            </a:r>
            <a:endParaRPr b="0" lang="en-US" sz="14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system can inform us if a hold is requested for a particular book for another patron.</a:t>
            </a:r>
            <a:endParaRPr b="0" lang="en-US" sz="1400" spc="-1" strike="noStrike">
              <a:solidFill>
                <a:srgbClr val="000000"/>
              </a:solidFill>
              <a:latin typeface="Georgia"/>
            </a:endParaRPr>
          </a:p>
          <a:p>
            <a:pPr lvl="2" marL="82224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ataloging:  Adding a Title</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fore you add a new title, Destiny requires you search for a title in the database.</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n  existing record will be indicated by a red schoolhouse</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there is no existing record listed, you may search Alliance Plus or Z-sources.</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you can’t find the record in the database, you may create your own record using the MARC Editor or Easy MARC Edito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ataloging:  Other Features</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d barcodes and call numbers and print label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d digital resources such as music, sound effects and lesson plans to each title record.</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ate temporary titles when you need a quick record for checkout.</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Good for magazines, student-published items, etc.</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eding log outlines book information, who removed the copy, and a total count of items that were deleted or weeded.</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nline Card Catalog – Search Features</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ree ways to search:</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ic</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sual (great for kids learning to read or spell)</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wer (</a:t>
            </a:r>
            <a:r>
              <a:rPr b="0" i="1" lang="en-US" sz="1800" spc="-1" strike="noStrike">
                <a:solidFill>
                  <a:srgbClr val="000000"/>
                </a:solidFill>
                <a:latin typeface="Georgia"/>
              </a:rPr>
              <a:t>And</a:t>
            </a:r>
            <a:r>
              <a:rPr b="0" lang="en-US" sz="1800" spc="-1" strike="noStrike">
                <a:solidFill>
                  <a:srgbClr val="000000"/>
                </a:solidFill>
                <a:latin typeface="Georgia"/>
              </a:rPr>
              <a:t>, </a:t>
            </a:r>
            <a:r>
              <a:rPr b="0" i="1" lang="en-US" sz="1800" spc="-1" strike="noStrike">
                <a:solidFill>
                  <a:srgbClr val="000000"/>
                </a:solidFill>
                <a:latin typeface="Georgia"/>
              </a:rPr>
              <a:t>Or</a:t>
            </a:r>
            <a:r>
              <a:rPr b="0" lang="en-US" sz="1800" spc="-1" strike="noStrike">
                <a:solidFill>
                  <a:srgbClr val="000000"/>
                </a:solidFill>
                <a:latin typeface="Georgia"/>
              </a:rPr>
              <a:t> and </a:t>
            </a:r>
            <a:r>
              <a:rPr b="0" i="1" lang="en-US" sz="1800" spc="-1" strike="noStrike">
                <a:solidFill>
                  <a:srgbClr val="000000"/>
                </a:solidFill>
                <a:latin typeface="Georgia"/>
              </a:rPr>
              <a:t>But Not </a:t>
            </a:r>
            <a:r>
              <a:rPr b="0" lang="en-US" sz="1800" spc="-1" strike="noStrike">
                <a:solidFill>
                  <a:srgbClr val="000000"/>
                </a:solidFill>
                <a:latin typeface="Georgia"/>
              </a:rPr>
              <a:t>connections)</a:t>
            </a: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arch by:</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Keyword</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tl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utho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bject</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rie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ll Numb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ONLINE CARD CATALOG- ADDITIONAL FEATURES</a:t>
            </a:r>
            <a:endParaRPr b="0" lang="en-US" sz="30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sually appealing.</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n retrieve previous searche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tle records are shared throughout the District.</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achers can create relevant content bibliographies for students to search on specific topic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howcase your collection:</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play the Top 10 circulating books.</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play the 10 newest arrival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llection Statistics summary - Summary of circulation statistics, average ages, and values; organized by call number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rcode labels - Create copy labels based on titles in the lis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rcode lists - Create a list of used or unused barcodes this provide a rang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ld Statistics - Examine how often patrons are placing holds/reserves of books in the coll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y Hold Notices - Provides notice to patrons when the items they requested are ready to pick up </a:t>
            </a:r>
            <a:endParaRPr b="0" lang="en-US" sz="1800" spc="-1" strike="noStrike">
              <a:solidFill>
                <a:srgbClr val="000000"/>
              </a:solidFill>
              <a:latin typeface="Arial"/>
            </a:endParaRPr>
          </a:p>
        </p:txBody>
      </p:sp>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stiny Repor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Arial"/>
            </a:endParaRPr>
          </a:p>
        </p:txBody>
      </p:sp>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ypes of Reports con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 </cp:lastModifiedBy>
  <dcterms:modified xsi:type="dcterms:W3CDTF">2009-07-11T18:40:48Z</dcterms:modified>
  <cp:revision>23</cp:revision>
  <dc:subject/>
  <dc:title>Slide 1</dc:title>
</cp:coreProperties>
</file>