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1347AB-F525-4D9A-AA6A-83AE55619F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D9CAA-BB24-4DD9-8FF0-2B7F60F8B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8862C2ED-671F-473F-9235-15D1AD9AE80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EE90B26-25FA-4C29-8490-C4E6735109C1}"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259A500C-9F23-424B-A0C3-7133FB126B4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7000F8C7-9CCE-4B3C-B557-23768F5B64C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21457CA5-41EF-482F-B4CC-29AC87244694}"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F1EC553A-B115-427C-B22D-3274F82C081E}"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A867A34E-C105-49B3-AFFB-628BA721658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4E9F96D-109B-4D52-99BB-D54C02C2C4ED}"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412DE82D-0CED-4F44-9CFA-BF17F57C882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F42D9E32-AC0C-4E6F-92ED-15B957AB73F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E711DF-5346-4FA8-ACD6-C2DF88DD4D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FDE1801-39F7-4FCC-B6A0-487D5B0D2F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DF1A7379-E52C-4541-8079-1DF4132533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974D549-8009-42CD-A037-57F54FEC1F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7B7019CC-6681-40B5-883C-36FF0E730C7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38D0415-5780-46CC-9A6B-EED490DB7E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1E73513E-37AE-4A74-BFAB-2AE3C904DBF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8BF724F-1B96-49C9-B5A7-9D180A25962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AD70387-C39B-4EAA-ACDB-FD73B1A567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C770B58-ABAC-46C6-AB88-1E9A6E8741F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431EABB-99EE-4BD7-B346-993EF62DC77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D7F468-EC26-4739-8F1B-FDABFBC895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3D1DC741-FAB6-484E-AA46-58A3F7A1E8B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50EFD6A-EBA0-4377-8676-1633ED5D435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5FA73F9-40C8-4BAB-9953-157F7371F97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9C7C23F-45B1-4281-B659-B0B062FF17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8599B23-3354-4186-A7AB-AA5552281F4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4C23A37-6022-46E9-A32C-F678AE4D9F9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E64305E-EADC-4DB2-AA60-3924CC8946B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F917C15-E72E-42D9-8999-5A93107CC6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9C606CE-D4A4-4A79-92DA-0F61B60959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B3074F1-AEC1-4FA9-81D7-D32B327110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946782-27FF-425A-8C98-041716275D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2625E9-3392-41BC-8A76-F1E3A2CFCDE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C6964F1-1F39-4E68-91AF-BACE7E8AEB8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5F0D6DB-F634-43DD-B654-9D7215E9C11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3D6F85E4-B423-4302-B479-A531B99F9E6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E2A64E86-C22E-481D-B741-5CA08632B1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7793DC9-5C16-4AD8-A578-A115CF2DEAD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DC8782BC-C14C-4134-8978-0B2722D34B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1A4D795-B671-44C7-BBDD-28589015C7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A78D81D3-5DE5-49AF-97C1-9BA4C216225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A5B5CE30-BE16-4216-BB3F-BF413F5FA5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EF0C9-2BCD-4639-9B5A-2C83F14075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112E747-87AF-40D3-A02E-0D4C5A1740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9B6EA322-46E0-4BB7-900E-72F5E4458E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B3787005-984C-474A-92A7-F6572624EAF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F4D652D3-1A37-4788-9CAE-65E4727292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C08C52AE-CF97-4111-A353-2B0A7F857B7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4BC94F-4A61-4B6E-9BC0-593B63EC6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B6244B-85CA-45E1-9443-A54B36FF66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4F1F81-D6E5-45C2-AF13-4EF1AA1357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BDA74B-A1E3-4B9A-9BFD-26D266BAB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F652E9-9CE9-4393-9D7A-154431995B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EED9E8-F288-4E45-8877-90DAE71A9D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85288-28F8-4187-B0B4-B8A09E0F64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78CB2C-9555-4551-9C2B-93FD1B09A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733F41-58E7-4D60-BDDC-6F4012A32F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65A5C2-1573-4BB3-A749-6E2BEBC927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BA32A5-A8FB-41C3-96BD-DFDA04E9A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A93FC80-40A5-42E0-885E-9772B4612D1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2522D5-AF2F-4AA1-9477-8636FD9EFB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6B5D04-A0C4-4FF5-BBD9-3304DDDDB8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9F4EDF-79CB-434F-AA65-92F0A1C7B8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641D46-419C-4BC2-A424-F6B11911D5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AEA042-661E-42C5-A8A1-56E4D4EBBB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6C2BA1-A50B-4EF0-8B3E-FB03B6611C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39BEDF-7E10-4809-A025-A178C7D71D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FDB73C-1B3F-460A-B535-28550AF9034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729E9D6-E13E-4F74-893D-51A5534DFF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5C19AF-1417-4667-B145-1777633D81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F207F3-F780-4EC4-AB2E-B8B3D120D8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B4E44F-8E2E-4256-878A-BECA9F3024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265064A9-C6A4-4A9F-A41A-222C463C5CD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7114B95E-D79D-42B2-8DDD-D9AA8A231EC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F8B53B25-8462-4277-9114-D20BDFD856C7}"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01F959-8E81-4099-AECE-5B375A97E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71D3867F-B346-4708-ADA6-D122DD88ACF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2F134038-A960-4DDB-9493-EBD7E7DE5F0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8D1A642-4847-4FD0-9A6C-79B9BB86295D}"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D0C2C11D-CA48-4C58-8BAE-7CD0D76E80C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F4AF185-452F-48E3-A2A5-AD8CEAD91B8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55D10B57-DCF5-48AB-88FA-0EA8075FE33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AF9D301-61B7-4C02-B312-BE62FD16725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3C3E1AB-8451-4215-BE4D-CCB65DB22CA3}"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CF09B6D4-4910-4902-9C9E-BD939669A484}"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9A1A3B-FD0B-4299-85DF-0093659C01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DD9B0-DFE0-48E3-A0C8-E6D1043816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91EB8F-4303-4579-B95B-7CA71F0101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D24283-448A-4104-AD19-91D9D2CE10D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D6668E9-62BF-467C-AA52-F545EA34AC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ABB4E7-A6F0-4CA9-8C57-26CD252B09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41F11E-9DA8-41A6-86F1-E1A55585D39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57367C-543F-426C-B6C5-F9E7506E02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FAB13D-8D83-47F8-B0DD-E0C633CA02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86BE48-A0E9-4AE5-9DD3-2F6051FC2E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13F3ED-8FEE-4042-8605-4CC5D1C241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192DC2F-6DCE-40C7-BE72-AE3D3865CA6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2C938-3F3D-4D29-96E2-C64E231272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358B908-3BF4-44D6-B6B1-14AE9049BC4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7A9BE6-D5FA-4C38-8D28-065B4C94D8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83A69D-919B-418B-BEDB-473F13F229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9857AB9-D631-4A5E-871A-08A5288419D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63B89B-B213-46ED-8AB2-EF299E3CB5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51A86A-3D02-41E6-A6E5-DBDEAB3BFE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2B814F-4F71-41C3-9D9C-C66D96B87B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0DF84E-7101-49A4-BC86-CADB355EE5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152FD2-8473-4452-A71A-0458906905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1A7C29-7EE5-4FC3-ACFE-5EEDE68277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ED7057-15C2-4D51-B662-99769C650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C8D977-88A6-4283-BE45-62EBC91BE9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3F8A6B-C43C-4219-848E-ADF68E347F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131B564-FD6B-4EB8-8362-E79A9B6655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A46C1B6-54C3-4883-93BA-AC7DBC44705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54BFD3-0C5F-421F-A89E-1583A7FA3AA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94D7B06-6D79-4C24-A249-C813A60C172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148075-9AB3-497E-A585-5A8710030E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D26CA9-F768-4850-BE4F-ECC518299D6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46D040-EE74-4748-B297-9EBCBF92B1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A337BB-A08F-43EA-9ECB-D6166F7498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DEA7EB-1340-4524-B189-F36877E8B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677476D-A781-44DB-A89E-10CCFC1162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F38392-1E3E-4901-924C-C7E93EB93C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09F139-DE1D-41DB-B3AF-4F91E1AF58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06A943-08CE-4179-849E-E3E1437DEBC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BC98997-2845-4247-AD96-4BB1B4B56C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309994-D25C-4E41-AC33-7702EBFEFD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34DC34-A749-49E8-881A-9933419E53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1A7463-CC03-4C24-9A56-DD8A73BB57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276FDF9-C1AB-4B8F-81BC-E1EBD37108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09A38D-DD11-44B7-96A4-39B5F058EF4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FD807-5F56-414F-8DCF-B20A01CCA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B1DD925-10BB-468C-AE49-D88AC19B478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5214B0-2B38-4591-B94C-AACF783EBB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4AF8D2-3B05-4EDF-BAC5-FBFB9D26DC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67CF63-5526-46E5-A7BD-E9B0FE651A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0DF03A-7CED-4243-BFE8-06E434E503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0F184C-9E02-4688-9FA1-C342890A06B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0DA0F4-6E59-466B-BD80-7F00DCF6D63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816E8F4F-F272-45DF-BD6C-6EDBF24469F4}"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06709FFB-8E45-45CF-AD55-FAAB2ACDBCB4}"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617CC28-4027-4C59-B64D-7DBA8C9EB3F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D055C-0609-4B3A-8281-F8560EFA68F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99AC9-D63D-4346-B65D-D180EEC339B6}"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261C3-4F5A-47CA-AF35-3D976934FBA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9B45E-45DA-415F-8AE5-1DFD8B96B17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7688C-BB59-42EF-ACD0-6CB85FB55EC5}"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6250C-6358-49CB-B140-FE5AEB419AF7}"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472D2-3482-447A-9E8B-1D45C9C4DF9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CC73B-FD36-4219-B717-B78DFD7172E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23504-3B5D-4CA8-B545-287CC8B4F59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A3C48-B555-4C8A-B706-FD64C80C47BB}"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A3D33-505C-4832-AF58-C1CDC448EA20}"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99F9E-1423-4680-9561-D3B4A9E5704E}"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 LIBRARY AUTOMATION SYSTEM THAT WILL BENEFIT ALL OF U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Destiny will help  Bailey School District reach its Goal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stiny Report extras</a:t>
            </a:r>
            <a:endParaRPr b="0" lang="en-US" sz="3300" spc="-1" strike="noStrike">
              <a:solidFill>
                <a:srgbClr val="7b9899"/>
              </a:solidFill>
              <a:latin typeface="Georgia"/>
            </a:endParaRPr>
          </a:p>
        </p:txBody>
      </p:sp>
      <p:sp>
        <p:nvSpPr>
          <p:cNvPr id="625" name="Rectangle 2"/>
          <p:cNvSpPr/>
          <p:nvPr/>
        </p:nvSpPr>
        <p:spPr>
          <a:xfrm>
            <a:off x="228600" y="175248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for an entire district or by individual school.</a:t>
            </a:r>
            <a:br>
              <a:rPr sz="1800"/>
            </a:b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which include only the information that you wan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ailed reports enable districts to analyze trends and make informed decisions. Reports are easily edited, modified, sorted, and filtered. The information that is pulled can be displayed in HTML, or exported in XML format and imported into a spreadshee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set to run automatically at a certain time each day.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or example, if you want your fine/overdue lists every Monday morning,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8:00, you can set it up to do th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Students will like that Destiny allows them to:</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ess the program anywhere in the school.</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rite book reviews for other students with librarian approval.</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ommend books to other people.</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ut books on hold.</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books, through th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Find-a-book</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feature, that is connected to Reading Counts, Accelerated Reader, or Lexile level.</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 lists of books, websites, and online resources that they want read.</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Arial"/>
              </a:rPr>
              <a:t>Teachers will like that Destiny allows them to:</a:t>
            </a:r>
            <a:endParaRPr b="0" lang="en-US" sz="30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out which students are using the library the most.</a:t>
            </a: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Destiny online anywhere and at any time</a:t>
            </a:r>
            <a:r>
              <a:rPr b="0" lang="en-US" sz="1600" spc="-1" strike="noStrike">
                <a:solidFill>
                  <a:srgbClr val="000000"/>
                </a:solidFill>
                <a:latin typeface="Arial"/>
              </a:rPr>
              <a:t>.</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content bibliographies for students to search on specific topics utilizing the category segment.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 their students through their K-12 years.</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sh for a book with the request being sent to the librarian.</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into “MyInfo” to see their patron information</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Parents will like that Destiny allows them to</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he library card catalog 24/7</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safe, educational K-12 websites that are linked to Destiny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books age-appropriate for their children through the “Find a Book” feature</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THER NOTABLE FEATURES</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b-based automation system - installed on a single server, intuitive and fast</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addition to library automation, Destiny offers products to manage library resources, textbooks, media materials, equipment and other asset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Different levels of access for library administrator, library staff, and patrons.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ventory:</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an be done any time of the yea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an do partial, full, or special circulation type inventorie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ree ways to get help</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  800 numbe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  Help butto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  Online tutorials</a:t>
            </a:r>
            <a:endParaRPr b="0" lang="en-US" sz="1400" spc="-1" strike="noStrike">
              <a:solidFill>
                <a:srgbClr val="000000"/>
              </a:solidFill>
              <a:latin typeface="Georgia"/>
            </a:endParaRPr>
          </a:p>
          <a:p>
            <a:pPr marL="272880" indent="-272880">
              <a:spcBef>
                <a:spcPts val="1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f the network is down:</a:t>
            </a:r>
            <a:endParaRPr b="0" lang="en-US" sz="1400" spc="-1" strike="noStrike">
              <a:solidFill>
                <a:srgbClr val="000000"/>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46b86"/>
                </a:solidFill>
                <a:latin typeface="Georgia"/>
              </a:rPr>
              <a:t>Use Follett Remote</a:t>
            </a:r>
            <a:endParaRPr b="0" lang="en-US" sz="1300" spc="-1" strike="noStrike">
              <a:solidFill>
                <a:srgbClr val="646b86"/>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46b86"/>
                </a:solidFill>
                <a:latin typeface="Georgia"/>
              </a:rPr>
              <a:t>Book and patron barcodes can be recorded to a text file at checkout and later downloaded into Destiny.</a:t>
            </a:r>
            <a:endParaRPr b="0" lang="en-US" sz="1300" spc="-1" strike="noStrike">
              <a:solidFill>
                <a:srgbClr val="646b86"/>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46b86"/>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 </a:t>
            </a:r>
            <a:r>
              <a:rPr b="1" lang="en-US" sz="3300" spc="-1" strike="noStrike">
                <a:solidFill>
                  <a:srgbClr val="7b9899"/>
                </a:solidFill>
                <a:latin typeface="Georgia"/>
              </a:rPr>
              <a:t>STRONG SUPPORT</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ree ways to get help:</a:t>
            </a:r>
            <a:endParaRPr b="0" lang="en-US" sz="1800" spc="-1" strike="noStrike">
              <a:solidFill>
                <a:srgbClr val="000000"/>
              </a:solidFill>
              <a:latin typeface="Georgia"/>
            </a:endParaRPr>
          </a:p>
          <a:p>
            <a:pPr lvl="1" marL="547560" indent="-272880">
              <a:spcBef>
                <a:spcPts val="3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Georgia"/>
              </a:rPr>
              <a:t>via telephone – 800 number</a:t>
            </a:r>
            <a:endParaRPr b="0" lang="en-US" sz="1400" spc="-1" strike="noStrike">
              <a:solidFill>
                <a:srgbClr val="646b86"/>
              </a:solidFill>
              <a:latin typeface="Georgia"/>
            </a:endParaRPr>
          </a:p>
          <a:p>
            <a:pPr lvl="1" marL="547560" indent="-272880">
              <a:spcBef>
                <a:spcPts val="3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46b86"/>
                </a:solidFill>
                <a:latin typeface="Georgia"/>
              </a:rPr>
              <a:t>Help </a:t>
            </a:r>
            <a:r>
              <a:rPr b="0" lang="en-US" sz="1400" spc="-1" strike="noStrike">
                <a:solidFill>
                  <a:srgbClr val="646b86"/>
                </a:solidFill>
                <a:latin typeface="Georgia"/>
              </a:rPr>
              <a:t>button</a:t>
            </a:r>
            <a:endParaRPr b="0" lang="en-US" sz="1400" spc="-1" strike="noStrike">
              <a:solidFill>
                <a:srgbClr val="646b86"/>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Online tutorials</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f the Network is dow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use </a:t>
            </a:r>
            <a:r>
              <a:rPr b="0" i="1" lang="en-US" sz="1400" spc="-1" strike="noStrike">
                <a:solidFill>
                  <a:srgbClr val="000000"/>
                </a:solidFill>
                <a:latin typeface="Georgia"/>
              </a:rPr>
              <a:t>Follett Remote.</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ook and patron barcodes can be recorded in a text file at checkout and later downloaded into Destiny</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ree ways to get help:</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via telephone – 800 numbe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Help </a:t>
            </a:r>
            <a:r>
              <a:rPr b="0" lang="en-US" sz="1400" spc="-1" strike="noStrike">
                <a:solidFill>
                  <a:srgbClr val="000000"/>
                </a:solidFill>
                <a:latin typeface="Georgia"/>
              </a:rPr>
              <a:t>butto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nline tutorials</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 </a:t>
            </a:r>
            <a:r>
              <a:rPr b="1" lang="en-US" sz="3300" spc="-1" strike="noStrike">
                <a:solidFill>
                  <a:srgbClr val="7b9899"/>
                </a:solidFill>
                <a:latin typeface="Georgia"/>
              </a:rPr>
              <a:t>OPTIONS</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Web-Path Express</a:t>
            </a:r>
            <a:r>
              <a:rPr b="0" lang="en-US" sz="1400" spc="-1" strike="noStrike">
                <a:solidFill>
                  <a:srgbClr val="000000"/>
                </a:solidFill>
                <a:latin typeface="Georgia"/>
              </a:rPr>
              <a:t> - helps students find age-appropriate Web sites for research</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Standards Search</a:t>
            </a:r>
            <a:r>
              <a:rPr b="0" lang="en-US" sz="1400" spc="-1" strike="noStrike">
                <a:solidFill>
                  <a:srgbClr val="000000"/>
                </a:solidFill>
                <a:latin typeface="Georgia"/>
              </a:rPr>
              <a:t> - you can find thousands of resources already aligned to your state's learning standard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Reading Programs</a:t>
            </a:r>
            <a:r>
              <a:rPr b="0" i="1" lang="en-US" sz="1400" spc="-1" strike="noStrike">
                <a:solidFill>
                  <a:srgbClr val="000000"/>
                </a:solidFill>
                <a:latin typeface="Georgia"/>
              </a:rPr>
              <a:t> -</a:t>
            </a:r>
            <a:r>
              <a:rPr b="0" lang="en-US" sz="1400" spc="-1" strike="noStrike">
                <a:solidFill>
                  <a:srgbClr val="000000"/>
                </a:solidFill>
                <a:latin typeface="Georgia"/>
              </a:rPr>
              <a:t> once enabled - Accelerated Reader, Reading Counts, and lexile measures can be searched.  Quiz files can be uploaded.</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Title Peak</a:t>
            </a:r>
            <a:r>
              <a:rPr b="0" i="1" lang="en-US" sz="1400" spc="-1" strike="noStrike">
                <a:solidFill>
                  <a:srgbClr val="000000"/>
                </a:solidFill>
                <a:latin typeface="Georgia"/>
              </a:rPr>
              <a:t> –</a:t>
            </a:r>
            <a:r>
              <a:rPr b="0" lang="en-US" sz="1400" spc="-1" strike="noStrike">
                <a:solidFill>
                  <a:srgbClr val="000000"/>
                </a:solidFill>
                <a:latin typeface="Georgia"/>
              </a:rPr>
              <a:t> book cover picture is provided, with access to table of contents, author notes, and journal review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One Search</a:t>
            </a:r>
            <a:r>
              <a:rPr b="0" i="1" lang="en-US" sz="1400" spc="-1" strike="noStrike">
                <a:solidFill>
                  <a:srgbClr val="000000"/>
                </a:solidFill>
                <a:latin typeface="Georgia"/>
              </a:rPr>
              <a:t> – </a:t>
            </a:r>
            <a:r>
              <a:rPr b="0" lang="en-US" sz="1400" spc="-1" strike="noStrike">
                <a:solidFill>
                  <a:srgbClr val="000000"/>
                </a:solidFill>
                <a:latin typeface="Georgia"/>
              </a:rPr>
              <a:t>patron may search for both online resources and catalog resources at the same time.</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Find-</a:t>
            </a:r>
            <a:r>
              <a:rPr b="0" lang="en-US" sz="1400" spc="-1" strike="noStrike">
                <a:solidFill>
                  <a:srgbClr val="000000"/>
                </a:solidFill>
                <a:latin typeface="Georgia"/>
              </a:rPr>
              <a:t>a-Book – helps patrons find books associated with </a:t>
            </a:r>
            <a:r>
              <a:rPr b="0" i="1" lang="en-US" sz="1400" spc="-1" strike="noStrike">
                <a:solidFill>
                  <a:srgbClr val="000000"/>
                </a:solidFill>
                <a:latin typeface="Georgia"/>
              </a:rPr>
              <a:t>Reading Counts, Accelerated Reader, or by Lexile Level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Products to manage textbooks, media products and materials, and other asset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 conclusion…</a:t>
            </a:r>
            <a:endParaRPr b="0" lang="en-US" sz="33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s your professional, library media specialists, we highly recommend Destiny Automation system for the three libraries at Bailey School Distric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rrently, without automation, we are not able to help students, teachers or administration with the information or help they ne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ank you for your tim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irculation</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 glance, we can locate, report and determine the status of every library resource.</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udent accountability will improve and the district will see a reduction in inventory loss and the associated replacement cost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 can track and report on library inventory by patron, resource, title, building or district.</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stomization available</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udents and parents can receive an email reminder of overdue material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rogram will follow students as they move through the school, from Kindergarten to their senior year.</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fferent policies can be customized for each library:</a:t>
            </a:r>
            <a:endParaRPr b="0" lang="en-US" sz="18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oan periods and possible fines can be individualized for each building’s library.</a:t>
            </a:r>
            <a:endParaRPr b="0" lang="en-US" sz="14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enewal periods can be set up for each library.</a:t>
            </a:r>
            <a:endParaRPr b="0" lang="en-US" sz="14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e system can inform us if a hold is requested for a particular book for another patron.</a:t>
            </a:r>
            <a:endParaRPr b="0" lang="en-US" sz="1400" spc="-1" strike="noStrike">
              <a:solidFill>
                <a:srgbClr val="000000"/>
              </a:solidFill>
              <a:latin typeface="Georgia"/>
            </a:endParaRPr>
          </a:p>
          <a:p>
            <a:pPr lvl="2" marL="82224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ataloging:  Adding a Title</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fore you add a new title, Destiny requires you search for a title in the database.</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n  existing record will be indicated by a red schoolhouse</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f there is no existing record listed, you may search Alliance Plus or Z-sources.</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f you can’t find the record in the database, you may create your own record using the MARC Editor or Easy MARC Edito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ataloging:  Other Features</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d barcodes and call numbers and print label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d digital resources such as music, sound effects and lesson plans to each title record.</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eate temporary titles when you need a quick record for checkout.</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Good for magazines, student-published items, etc.</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eding log outlines book information, who removed the copy, and a total count of items that were deleted or weeded.</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nline Card Catalog – Search Features</a:t>
            </a: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ree ways to search:</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sic</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Visual (great for kids learning to read or spell)</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wer (</a:t>
            </a:r>
            <a:r>
              <a:rPr b="0" i="1" lang="en-US" sz="1800" spc="-1" strike="noStrike">
                <a:solidFill>
                  <a:srgbClr val="000000"/>
                </a:solidFill>
                <a:latin typeface="Georgia"/>
              </a:rPr>
              <a:t>And</a:t>
            </a:r>
            <a:r>
              <a:rPr b="0" lang="en-US" sz="1800" spc="-1" strike="noStrike">
                <a:solidFill>
                  <a:srgbClr val="000000"/>
                </a:solidFill>
                <a:latin typeface="Georgia"/>
              </a:rPr>
              <a:t>, </a:t>
            </a:r>
            <a:r>
              <a:rPr b="0" i="1" lang="en-US" sz="1800" spc="-1" strike="noStrike">
                <a:solidFill>
                  <a:srgbClr val="000000"/>
                </a:solidFill>
                <a:latin typeface="Georgia"/>
              </a:rPr>
              <a:t>Or</a:t>
            </a:r>
            <a:r>
              <a:rPr b="0" lang="en-US" sz="1800" spc="-1" strike="noStrike">
                <a:solidFill>
                  <a:srgbClr val="000000"/>
                </a:solidFill>
                <a:latin typeface="Georgia"/>
              </a:rPr>
              <a:t> and </a:t>
            </a:r>
            <a:r>
              <a:rPr b="0" i="1" lang="en-US" sz="1800" spc="-1" strike="noStrike">
                <a:solidFill>
                  <a:srgbClr val="000000"/>
                </a:solidFill>
                <a:latin typeface="Georgia"/>
              </a:rPr>
              <a:t>But Not </a:t>
            </a:r>
            <a:r>
              <a:rPr b="0" lang="en-US" sz="1800" spc="-1" strike="noStrike">
                <a:solidFill>
                  <a:srgbClr val="000000"/>
                </a:solidFill>
                <a:latin typeface="Georgia"/>
              </a:rPr>
              <a:t>connections)</a:t>
            </a:r>
            <a:r>
              <a:rPr b="0"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arch by:</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Keyword</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tle</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uthor</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ubject</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rie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ll Numb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ONLINE CARD CATALOG- ADDITIONAL FEATURES</a:t>
            </a:r>
            <a:endParaRPr b="0" lang="en-US" sz="30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Visually appealing.</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n retrieve previous searche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tle records are shared throughout the District.</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eachers can create relevant content bibliographies for students to search on specific topic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howcase your collection:</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play the Top 10 circulating books.</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play the 10 newest arrivals.</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0880" y="1600200"/>
            <a:ext cx="7848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bliography</a:t>
            </a:r>
            <a:r>
              <a:rPr b="0" lang="en-US" sz="1800" spc="-1" strike="noStrike">
                <a:solidFill>
                  <a:srgbClr val="000000"/>
                </a:solidFill>
                <a:latin typeface="Calibri"/>
              </a:rPr>
              <a:t> - Create a list of titles for use as a reading list or for promoting titles in the library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ection Statistics</a:t>
            </a:r>
            <a:r>
              <a:rPr b="0" lang="en-US" sz="1800" spc="-1" strike="noStrike">
                <a:solidFill>
                  <a:srgbClr val="000000"/>
                </a:solidFill>
                <a:latin typeface="Calibri"/>
              </a:rPr>
              <a:t> - Provides circulation statistics within a user specified time frame; available in summary or detailed form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llection Statistics summary - Summary of circulation statistics, average ages, and values; organized by call number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Barcodes</a:t>
            </a:r>
            <a:r>
              <a:rPr b="0" lang="en-US" sz="1800" spc="-1" strike="noStrike">
                <a:solidFill>
                  <a:srgbClr val="000000"/>
                </a:solidFill>
                <a:latin typeface="Calibri"/>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rcode labels - Create copy labels based on titles in the lis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rcode lists - Create a list of used or unused barcodes this provide a rang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Call Number Reports</a:t>
            </a:r>
            <a:r>
              <a:rPr b="0" lang="en-US" sz="1800" spc="-1" strike="noStrike">
                <a:solidFill>
                  <a:srgbClr val="000000"/>
                </a:solidFill>
                <a:latin typeface="Calibri"/>
              </a:rPr>
              <a:t> - Provides lists of copies without call numbers, copies with different call numbers, and copy call number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Spine/Pocket Labels</a:t>
            </a:r>
            <a:r>
              <a:rPr b="0" lang="en-US" sz="1800" spc="-1" strike="noStrike">
                <a:solidFill>
                  <a:srgbClr val="000000"/>
                </a:solidFill>
                <a:latin typeface="Calibri"/>
              </a:rPr>
              <a:t> - Create spine and pockets labels based on a list or the date copies were added to the collection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s</a:t>
            </a:r>
            <a:r>
              <a:rPr b="0" lang="en-US" sz="1800" spc="-1" strike="noStrike">
                <a:solidFill>
                  <a:srgbClr val="000000"/>
                </a:solidFill>
                <a:latin typeface="Calibri"/>
              </a:rPr>
              <a:t> - View All - Provides a list of all the holds/reserves for the collec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ld Statistics - Examine how often patrons are placing holds/reserves of books in the collec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y Hold Notices - Provides notice to patrons when the items they requested are ready to pick up </a:t>
            </a:r>
            <a:endParaRPr b="0" lang="en-US" sz="1800" spc="-1" strike="noStrike">
              <a:solidFill>
                <a:srgbClr val="000000"/>
              </a:solidFill>
              <a:latin typeface="Arial"/>
            </a:endParaRPr>
          </a:p>
        </p:txBody>
      </p:sp>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stiny Repor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
          <p:cNvSpPr/>
          <p:nvPr/>
        </p:nvSpPr>
        <p:spPr>
          <a:xfrm>
            <a:off x="457200" y="1981080"/>
            <a:ext cx="7696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Progress &amp; Completed Inventories</a:t>
            </a:r>
            <a:r>
              <a:rPr b="0" lang="en-US" sz="1800" spc="-1" strike="noStrike">
                <a:solidFill>
                  <a:srgbClr val="000000"/>
                </a:solidFill>
                <a:latin typeface="Calibri"/>
              </a:rPr>
              <a:t> - Create reports based on in-progress or completed inventorie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rary Statistics</a:t>
            </a:r>
            <a:r>
              <a:rPr b="0" lang="en-US" sz="1800" spc="-1" strike="noStrike">
                <a:solidFill>
                  <a:srgbClr val="000000"/>
                </a:solidFill>
                <a:latin typeface="Calibri"/>
              </a:rPr>
              <a:t> - Provides information about the library like number of titles, copies, patrons, as well as a snapshot of the circulation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Statistics</a:t>
            </a:r>
            <a:r>
              <a:rPr b="0" lang="en-US" sz="1800" spc="-1" strike="noStrike">
                <a:solidFill>
                  <a:srgbClr val="000000"/>
                </a:solidFill>
                <a:latin typeface="Calibri"/>
              </a:rPr>
              <a:t> - Provides a list of terms used most often in local Basic Searche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lf List</a:t>
            </a:r>
            <a:r>
              <a:rPr b="0" lang="en-US" sz="1800" spc="-1" strike="noStrike">
                <a:solidFill>
                  <a:srgbClr val="000000"/>
                </a:solidFill>
                <a:latin typeface="Calibri"/>
              </a:rPr>
              <a:t> - Provides a complete list of titles in the collection by call number, author, or title order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tle &amp; Copy List</a:t>
            </a:r>
            <a:r>
              <a:rPr b="0" lang="en-US" sz="1800" spc="-1" strike="noStrike">
                <a:solidFill>
                  <a:srgbClr val="000000"/>
                </a:solidFill>
                <a:latin typeface="Calibri"/>
              </a:rPr>
              <a:t> - Provides a list of titles and copies, advanced options allow choice of copy details to includ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eding Log</a:t>
            </a:r>
            <a:r>
              <a:rPr b="0" lang="en-US" sz="1800" spc="-1" strike="noStrike">
                <a:solidFill>
                  <a:srgbClr val="000000"/>
                </a:solidFill>
                <a:latin typeface="Calibri"/>
              </a:rPr>
              <a:t> - Provides a list of copies that have been weeded, deleted, transferred, from the collection during a particular time fram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sh Lists</a:t>
            </a:r>
            <a:r>
              <a:rPr b="0" lang="en-US" sz="1800" spc="-1" strike="noStrike">
                <a:solidFill>
                  <a:srgbClr val="000000"/>
                </a:solidFill>
                <a:latin typeface="Calibri"/>
              </a:rPr>
              <a:t> - Provides a view of wish list recommendations</a:t>
            </a:r>
            <a:endParaRPr b="0" lang="en-US" sz="1800" spc="-1" strike="noStrike">
              <a:solidFill>
                <a:srgbClr val="000000"/>
              </a:solidFill>
              <a:latin typeface="Arial"/>
            </a:endParaRPr>
          </a:p>
        </p:txBody>
      </p:sp>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ypes of Reports cont.</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3:59:05Z</dcterms:created>
  <dc:creator>Harold Mitchell</dc:creator>
  <dc:description/>
  <dc:language>en-US</dc:language>
  <cp:lastModifiedBy> </cp:lastModifiedBy>
  <dcterms:modified xsi:type="dcterms:W3CDTF">2009-07-11T18:40:48Z</dcterms:modified>
  <cp:revision>23</cp:revision>
  <dc:subject/>
  <dc:title>Slide 1</dc:title>
</cp:coreProperties>
</file>