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E73-86E7-41AD-9DAC-A32A672A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ACA-54EC-4C13-ACFB-7B148F8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DB2-D871-470D-97F7-E52ED266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46D-6EBD-4158-A6FB-F98CDCC1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B6D-88A3-4F34-A84B-D619E52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545-5301-4719-8708-37B6243F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04D-C961-49F5-83E9-12E16B8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6AF-0F3F-4D1C-BF46-F745E178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2AA-9603-489F-9F57-2699CE1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BA9-2F5F-4238-BCD1-970D06A2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187-E533-4BC6-BA02-E9C00A6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F89-D9CD-4F1D-8A2D-A80BE702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0EB1-5456-4656-875B-B101F29E5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the program anywhere in the schoo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book reviews for other students with librarian appro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 books to other peop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t books on ho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books, through the “Find-a-book” feature, that is connected to Reading Counts, Accelerated Reader, or Lexile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lists of books, websites, and online resources that they want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out which students are using the library the mos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Destiny online anywhere and at any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ontent bibliographies for students to search on specific topics utilizing the category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ir students through their K-12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for a book with the request being sent to the librari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into “MyInfo” to see their patro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he library card catalog 2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safe, educational K-12 websites that are linked to Desti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books age-appropriate for their children through the “Find a Book”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0:49:18Z</dcterms:created>
  <dc:creator>Jim&amp;Anita</dc:creator>
  <dc:description/>
  <dc:language>en-US</dc:language>
  <cp:lastModifiedBy>Jim&amp;Anita</cp:lastModifiedBy>
  <dcterms:modified xsi:type="dcterms:W3CDTF">2009-07-08T21:55:32Z</dcterms:modified>
  <cp:revision>5</cp:revision>
  <dc:subject/>
  <dc:title>Students will like that Destiny allows them to:</dc:title>
</cp:coreProperties>
</file>