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D048-E95C-4A5D-BC54-052E91051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8944-BA33-4B85-8B3B-6922947C6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8F7B-5ACD-4DDE-AAA9-EAD081035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F3FF-E656-43A0-9A37-C5177E9A6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F6D5-D2F1-4AD9-B3C2-BEB93CB4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4C43-D727-494F-B007-D6C82E105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8E5D-BCAB-472D-A48A-84BDF0D5B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D70D-1154-4A35-B872-777CC2555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0094-6699-4E07-A2A0-50C002331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2EDD-35FB-47EA-BA1C-3A5B116B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47AA-BFEF-426C-ACA6-F77CAAF3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F174-C4A2-4E77-B969-4F625498A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BFFF-AB16-4D53-98BD-A8513647B1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ill like that Destiny allows them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ccess the program anywhere in the school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rite book reviews for other students with librarian approv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ommend books to other peopl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ut books on hold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d books, through the “Find-a-book” feature, that is connected to Reading Counts, Accelerated Reader, or Lexile lev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reate lists of books, websites, and online resources that they want re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will like that Destiny allows them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d out which students are using the library the most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Destiny online anywhere and at any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content bibliographies for students to search on specific topics utilizing the category segment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llow their students through their K-12 yea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sh for a book with the request being sent to the librari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 into “MyInfo” to see their patron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s will like that Destiny allows them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the library card catalog 24/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d safe, educational K-12 websites that are linked to Destin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d books age-appropriate for their children through the “Find a Book” 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20:49:18Z</dcterms:created>
  <dc:creator>Jim&amp;Anita</dc:creator>
  <dc:description/>
  <dc:language>en-US</dc:language>
  <cp:lastModifiedBy>Jim&amp;Anita</cp:lastModifiedBy>
  <dcterms:modified xsi:type="dcterms:W3CDTF">2009-07-08T21:55:32Z</dcterms:modified>
  <cp:revision>5</cp:revision>
  <dc:subject/>
  <dc:title>Students will like that Destiny allows them to:</dc:title>
</cp:coreProperties>
</file>