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24DC-2E14-4203-B2E1-1B1B76F4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466B-0798-4E5B-A2A6-88AB5828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DE89-8BF6-4969-B52D-5CAD5AA0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639D-5B84-4302-A34D-1A8001AD1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5BD84-E0EB-4448-BD00-8D46626F5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D6B-29FF-4F14-9D14-E40C41EFC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F515-83E9-4A1D-926F-C44E7F6E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F2AE6-F541-439C-ADAE-5B00955C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2635-E3C3-4A19-9CC2-6F5A25AEF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1D3F-B057-4A9F-9D5A-79821B24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700-6FA1-4EDA-BDB2-99C5B71A8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25C1-A863-43B8-9270-CDE8269E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9517C-EAEB-46C9-B55A-0138257EF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ess the program anywhere in the schoo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rite book reviews for other students with librarian approv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mmend books to other peopl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t books on hol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books, through the “Find-a-book” feature, that is connected to Reading Counts, Accelerated Reader, or Lexile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eate lists of books, websites, and online resources that they want r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out which students are using the library the mos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Destiny online anywhere and at any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content bibliographies for students to search on specific topics utilizing the category segmen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their students through their K-12 ye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sh for a book with the request being sent to the librari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 into “MyInfo” to see their patron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the library card catalog 24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safe, educational K-12 websites that are linked to Desti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books age-appropriate for their children through the “Find a Book”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20:49:18Z</dcterms:created>
  <dc:creator>Jim&amp;Anita</dc:creator>
  <dc:description/>
  <dc:language>en-US</dc:language>
  <cp:lastModifiedBy>Jim&amp;Anita</cp:lastModifiedBy>
  <dcterms:modified xsi:type="dcterms:W3CDTF">2009-07-08T21:55:32Z</dcterms:modified>
  <cp:revision>5</cp:revision>
  <dc:subject/>
  <dc:title>Students will like that Destiny allows them to:</dc:title>
</cp:coreProperties>
</file>