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FD2-E07C-49B4-8926-D3A5464B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3F6-F712-4A69-911A-A899AED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026-E393-4835-9FD1-4EEFEB10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F35-3958-4351-BC8D-89881844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9C9-0079-435D-A48E-4F2C24C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5C2-96AD-4D7E-8AB5-49DD20E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59E-E597-4E67-A60A-88BB70A3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455-A795-4749-8903-848806A3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90D-A690-48F0-9688-4F9D9FD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F34-80BA-427F-A9B5-9CBE673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526-8EF0-49CA-8FDE-F7CB5232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E5F-1C4B-4651-9993-444BA9A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E209-4616-4B1A-8CFE-56A81D807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 the program anywhere in the schoo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book reviews for other students with librarian approv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 books to other peopl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t books on ho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books, through the “Find-a-book” feature, that is connected to Reading Counts, Accelerated Reader, or Lexile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lists of books, websites, and online resources that they want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out which students are using the library the mos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Destiny online anywhere and at any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content bibliographies for students to search on specific topics utilizing the category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ir students through their K-12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for a book with the request being sent to the librari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into “MyInfo” to see their patro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he library card catalog 2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safe, educational K-12 websites that are linked to Desti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books age-appropriate for their children through the “Find a Book”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0:49:18Z</dcterms:created>
  <dc:creator>Jim&amp;Anita</dc:creator>
  <dc:description/>
  <dc:language>en-US</dc:language>
  <cp:lastModifiedBy>Jim&amp;Anita</cp:lastModifiedBy>
  <dcterms:modified xsi:type="dcterms:W3CDTF">2009-07-08T21:55:32Z</dcterms:modified>
  <cp:revision>5</cp:revision>
  <dc:subject/>
  <dc:title>Students will like that Destiny allows them to:</dc:title>
</cp:coreProperties>
</file>