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ECB-7F6F-4ECF-98F0-590544C3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A2F-247B-40CF-8178-8AEAF3CC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318-FC78-4784-89E1-5165255E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A21-CFAC-4DE3-97D8-B6F82ADD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14E-BFC7-483B-9716-276752D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CF0-1F5E-4B52-B7D2-D053137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EF6-DCFF-4703-BD86-24FDB7DB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6FA-F1D8-48C0-ACDB-0D4DAC84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ED7-D5A9-443E-B6C4-787EEA1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723-6E89-48CB-9396-6E61B7A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E79-229B-4D79-8101-088EBD8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E34-0DD0-4E9A-8B4F-17DF82CE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91F8-5B76-4520-8D5E-DDD2DF03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the program anywhere in the schoo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book reviews for other students with librarian appro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 books to other peop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t books on ho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books, through the “Find-a-book” feature, that is connected to Reading Counts, Accelerated Reader, or Lexile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lists of books, websites, and online resources that they want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out which students are using the library the mos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Destiny online anywhere and at any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ontent bibliographies for students to search on specific topics utilizing the category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ir students through their K-12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for a book with the request being sent to the librari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into “MyInfo” to see their patro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he library card catalog 2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safe, educational K-12 websites that are linked to Desti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books age-appropriate for their children through the “Find a Book”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0:49:18Z</dcterms:created>
  <dc:creator>Jim&amp;Anita</dc:creator>
  <dc:description/>
  <dc:language>en-US</dc:language>
  <cp:lastModifiedBy>Jim&amp;Anita</cp:lastModifiedBy>
  <dcterms:modified xsi:type="dcterms:W3CDTF">2009-07-08T21:55:32Z</dcterms:modified>
  <cp:revision>5</cp:revision>
  <dc:subject/>
  <dc:title>Students will like that Destiny allows them to:</dc:title>
</cp:coreProperties>
</file>