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F06F-3785-4223-9ADC-656002AF7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940F-0D8B-4E6A-9E71-48E78ED71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65C1-E979-4DA2-ACFE-EDBDCFE0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BB5E-9476-4455-950A-730966990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A5AA-8364-4485-AA5F-CE79886D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9B4A-3160-45F1-8B6F-2C95281D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24D0-8EE1-4440-A246-17698419D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871-0450-48DA-A474-70F602EEA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3E1-FC93-4F85-A6F7-E46548BD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19F9-C60B-4BA9-B3D3-5FB06AE4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E632-38FA-4E3B-A4D4-405CE79CA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85976-1C04-4D90-BDDE-F2D8F5C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47F0D-8864-40C6-88B3-971F26D87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ccess the program anywhere in the school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write book reviews for other students with librarian approv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commend books to other peopl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put books on hold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books, through the “Find-a-book” feature, that is connected to Reading Counts, Accelerated Reader, or Lexile leve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reate lists of books, websites, and online resources that they want re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find out which students are using the library the mos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Destiny online anywhere and at any tim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content bibliographies for students to search on specific topics utilizing the category segment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llow their students through their K-12 yea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ish for a book with the request being sent to the libraria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 into “MyInfo” to see their patron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ents will like that Destiny allows them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the library card catalog 24/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safe, educational K-12 websites that are linked to Destin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books age-appropriate for their children through the “Find a Book” 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20:49:18Z</dcterms:created>
  <dc:creator>Jim&amp;Anita</dc:creator>
  <dc:description/>
  <dc:language>en-US</dc:language>
  <cp:lastModifiedBy>Jim&amp;Anita</cp:lastModifiedBy>
  <dcterms:modified xsi:type="dcterms:W3CDTF">2009-07-08T21:55:32Z</dcterms:modified>
  <cp:revision>5</cp:revision>
  <dc:subject/>
  <dc:title>Students will like that Destiny allows them to:</dc:title>
</cp:coreProperties>
</file>